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hammer.wav" ContentType="audio/x-wav"/>
  <Override PartName="/ppt/media/image13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37D-4050-4BC8-A94F-9317B282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A2F3-E023-4702-A68E-07089839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421-B084-481C-9034-7BE4989E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614-6A5D-463D-9F7C-62DB482B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678-A278-4509-A83A-EB57A3D1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FD1C-635C-43D7-9EDA-B8281602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EBF6-CE9B-497F-B6DC-9270D027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F517-101A-46A9-8DB7-9FD516E4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8366-6388-4A4E-87B4-F6E7CBB4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2C7-2418-499B-8E9C-3D19AC8F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475-250C-4DBC-BF79-3F513E60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C47D-ED0B-46AE-95F3-61818C1B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067A-4AFF-44DE-8B04-55BFCC3DB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Newcomen6325"/>
          <p:cNvPicPr/>
          <p:nvPr/>
        </p:nvPicPr>
        <p:blipFill>
          <a:blip r:embed="rId1"/>
          <a:stretch/>
        </p:blipFill>
        <p:spPr>
          <a:xfrm>
            <a:off x="2365200" y="333360"/>
            <a:ext cx="46389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Battersea_Powerstation_-_Across_Thames_-_London_-_020504"/>
          <p:cNvPicPr/>
          <p:nvPr/>
        </p:nvPicPr>
        <p:blipFill>
          <a:blip r:embed="rId1"/>
          <a:stretch/>
        </p:blipFill>
        <p:spPr>
          <a:xfrm>
            <a:off x="684360" y="765000"/>
            <a:ext cx="76006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bined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didcot-b"/>
          <p:cNvPicPr/>
          <p:nvPr/>
        </p:nvPicPr>
        <p:blipFill>
          <a:blip r:embed="rId1"/>
          <a:stretch/>
        </p:blipFill>
        <p:spPr>
          <a:xfrm>
            <a:off x="611280" y="549360"/>
            <a:ext cx="763272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826920" y="1515600"/>
            <a:ext cx="6097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WS OF THERMO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You cannot win you can only break 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You can only break even at absolute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You can never achieve absolute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S = k log 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ile:Zentralfriedhof Vienna - Boltzmann.JPG"/>
          <p:cNvPicPr/>
          <p:nvPr/>
        </p:nvPicPr>
        <p:blipFill>
          <a:blip r:embed="rId1"/>
          <a:stretch/>
        </p:blipFill>
        <p:spPr>
          <a:xfrm>
            <a:off x="2268360" y="0"/>
            <a:ext cx="489744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oms don’t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happens most ways happens most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2"/>
          <p:cNvSpPr/>
          <p:nvPr/>
        </p:nvSpPr>
        <p:spPr>
          <a:xfrm>
            <a:off x="1158840" y="14479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>
            <a:off x="1158840" y="5791320"/>
            <a:ext cx="563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10920" y="1539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277440" y="38088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518520" y="2492280"/>
            <a:ext cx="219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1/V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942160" y="5950080"/>
            <a:ext cx="790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/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 flipV="1">
            <a:off x="1187280" y="2060640"/>
            <a:ext cx="4753080" cy="367344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1158840" y="14479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1158840" y="5791320"/>
            <a:ext cx="563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6021000" y="59594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611280" y="153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276720" y="380880"/>
            <a:ext cx="27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7164000" y="2516040"/>
            <a:ext cx="160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V="1">
            <a:off x="1187280" y="2060640"/>
            <a:ext cx="4753080" cy="367344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1158840" y="14479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1158840" y="5791320"/>
            <a:ext cx="563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021000" y="59594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10920" y="1539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76360" y="380880"/>
            <a:ext cx="26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ressure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164360" y="2516040"/>
            <a:ext cx="15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1187280" y="2060640"/>
            <a:ext cx="4753080" cy="367344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at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al fired steam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trol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sel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t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wer station turb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1158840" y="14479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1158840" y="5791320"/>
            <a:ext cx="563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266720" y="601992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mber of molecules,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10920" y="1539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590560" y="380880"/>
            <a:ext cx="38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ommon sense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7164000" y="2516040"/>
            <a:ext cx="160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 flipV="1">
            <a:off x="1187280" y="2060640"/>
            <a:ext cx="4753080" cy="367344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270520" y="0"/>
            <a:ext cx="3785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oth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constant tempera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52000" y="30960"/>
            <a:ext cx="2355840" cy="2406240"/>
            <a:chOff x="252000" y="30960"/>
            <a:chExt cx="2355840" cy="2406240"/>
          </a:xfrm>
        </p:grpSpPr>
        <p:grpSp>
          <p:nvGrpSpPr>
            <p:cNvPr id="103" name="Group 4"/>
            <p:cNvGrpSpPr/>
            <p:nvPr/>
          </p:nvGrpSpPr>
          <p:grpSpPr>
            <a:xfrm>
              <a:off x="621720" y="201960"/>
              <a:ext cx="1442160" cy="1621800"/>
              <a:chOff x="621720" y="201960"/>
              <a:chExt cx="1442160" cy="1621800"/>
            </a:xfrm>
          </p:grpSpPr>
          <p:sp>
            <p:nvSpPr>
              <p:cNvPr id="104" name="Line 5"/>
              <p:cNvSpPr/>
              <p:nvPr/>
            </p:nvSpPr>
            <p:spPr>
              <a:xfrm>
                <a:off x="621720" y="201960"/>
                <a:ext cx="0" cy="1621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6"/>
              <p:cNvSpPr/>
              <p:nvPr/>
            </p:nvSpPr>
            <p:spPr>
              <a:xfrm>
                <a:off x="621720" y="1823760"/>
                <a:ext cx="14421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Line 7"/>
            <p:cNvSpPr/>
            <p:nvPr/>
          </p:nvSpPr>
          <p:spPr>
            <a:xfrm flipV="1">
              <a:off x="621720" y="606960"/>
              <a:ext cx="1230840" cy="1216440"/>
            </a:xfrm>
            <a:prstGeom prst="line">
              <a:avLst/>
            </a:prstGeom>
            <a:ln cap="sq"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8"/>
            <p:cNvSpPr/>
            <p:nvPr/>
          </p:nvSpPr>
          <p:spPr>
            <a:xfrm>
              <a:off x="1817640" y="1855800"/>
              <a:ext cx="79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/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9"/>
            <p:cNvSpPr/>
            <p:nvPr/>
          </p:nvSpPr>
          <p:spPr>
            <a:xfrm>
              <a:off x="252000" y="178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 flipV="1">
              <a:off x="621720" y="910800"/>
              <a:ext cx="1442160" cy="912600"/>
            </a:xfrm>
            <a:prstGeom prst="line">
              <a:avLst/>
            </a:prstGeom>
            <a:ln cap="sq"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 flipV="1">
              <a:off x="621720" y="252000"/>
              <a:ext cx="1018800" cy="1571760"/>
            </a:xfrm>
            <a:prstGeom prst="line">
              <a:avLst/>
            </a:prstGeom>
            <a:ln cap="sq"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2"/>
            <p:cNvSpPr/>
            <p:nvPr/>
          </p:nvSpPr>
          <p:spPr>
            <a:xfrm rot="19397400">
              <a:off x="1895040" y="0"/>
              <a:ext cx="212040" cy="953640"/>
            </a:xfrm>
            <a:custGeom>
              <a:avLst/>
              <a:gdLst>
                <a:gd name="textAreaLeft" fmla="*/ 0 w 212040"/>
                <a:gd name="textAreaRight" fmla="*/ 76680 w 212040"/>
                <a:gd name="textAreaTop" fmla="*/ 24840 h 953640"/>
                <a:gd name="textAreaBottom" fmla="*/ 928800 h 95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3"/>
          <p:cNvGrpSpPr/>
          <p:nvPr/>
        </p:nvGrpSpPr>
        <p:grpSpPr>
          <a:xfrm>
            <a:off x="4718160" y="3573360"/>
            <a:ext cx="4425840" cy="3286440"/>
            <a:chOff x="4718160" y="3573360"/>
            <a:chExt cx="4425840" cy="3286440"/>
          </a:xfrm>
        </p:grpSpPr>
        <p:grpSp>
          <p:nvGrpSpPr>
            <p:cNvPr id="113" name="Group 14"/>
            <p:cNvGrpSpPr/>
            <p:nvPr/>
          </p:nvGrpSpPr>
          <p:grpSpPr>
            <a:xfrm>
              <a:off x="5159520" y="4624560"/>
              <a:ext cx="1441440" cy="1622160"/>
              <a:chOff x="5159520" y="4624560"/>
              <a:chExt cx="1441440" cy="1622160"/>
            </a:xfrm>
          </p:grpSpPr>
          <p:sp>
            <p:nvSpPr>
              <p:cNvPr id="114" name="Line 15"/>
              <p:cNvSpPr/>
              <p:nvPr/>
            </p:nvSpPr>
            <p:spPr>
              <a:xfrm>
                <a:off x="5159520" y="4624560"/>
                <a:ext cx="0" cy="16221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6"/>
              <p:cNvSpPr/>
              <p:nvPr/>
            </p:nvSpPr>
            <p:spPr>
              <a:xfrm>
                <a:off x="5159520" y="6246720"/>
                <a:ext cx="1441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Line 17"/>
            <p:cNvSpPr/>
            <p:nvPr/>
          </p:nvSpPr>
          <p:spPr>
            <a:xfrm flipV="1">
              <a:off x="5159520" y="5030640"/>
              <a:ext cx="1230120" cy="1216080"/>
            </a:xfrm>
            <a:prstGeom prst="line">
              <a:avLst/>
            </a:prstGeom>
            <a:ln cap="sq"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6354360" y="62784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4718160" y="4600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 flipV="1">
              <a:off x="5159520" y="5333760"/>
              <a:ext cx="1441440" cy="912600"/>
            </a:xfrm>
            <a:prstGeom prst="line">
              <a:avLst/>
            </a:prstGeom>
            <a:ln cap="sq"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 flipV="1">
              <a:off x="5159520" y="4674960"/>
              <a:ext cx="1017360" cy="1571400"/>
            </a:xfrm>
            <a:prstGeom prst="line">
              <a:avLst/>
            </a:prstGeom>
            <a:ln cap="sq"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2"/>
            <p:cNvSpPr/>
            <p:nvPr/>
          </p:nvSpPr>
          <p:spPr>
            <a:xfrm rot="19397400">
              <a:off x="6432480" y="4422240"/>
              <a:ext cx="211320" cy="954360"/>
            </a:xfrm>
            <a:custGeom>
              <a:avLst/>
              <a:gdLst>
                <a:gd name="textAreaLeft" fmla="*/ 0 w 211320"/>
                <a:gd name="textAreaRight" fmla="*/ 76320 w 211320"/>
                <a:gd name="textAreaTop" fmla="*/ 24840 h 954360"/>
                <a:gd name="textAreaBottom" fmla="*/ 929520 h 95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3"/>
            <p:cNvSpPr/>
            <p:nvPr/>
          </p:nvSpPr>
          <p:spPr>
            <a:xfrm>
              <a:off x="5832360" y="3573360"/>
              <a:ext cx="3311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Isobars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      (constant pressure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4"/>
          <p:cNvGrpSpPr/>
          <p:nvPr/>
        </p:nvGrpSpPr>
        <p:grpSpPr>
          <a:xfrm>
            <a:off x="2585520" y="2060640"/>
            <a:ext cx="4937400" cy="2665440"/>
            <a:chOff x="2585520" y="2060640"/>
            <a:chExt cx="4937400" cy="2665440"/>
          </a:xfrm>
        </p:grpSpPr>
        <p:sp>
          <p:nvSpPr>
            <p:cNvPr id="124" name="Text Box 25"/>
            <p:cNvSpPr/>
            <p:nvPr/>
          </p:nvSpPr>
          <p:spPr>
            <a:xfrm>
              <a:off x="4510440" y="2060640"/>
              <a:ext cx="30124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Isochor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constant volume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6"/>
            <p:cNvGrpSpPr/>
            <p:nvPr/>
          </p:nvGrpSpPr>
          <p:grpSpPr>
            <a:xfrm>
              <a:off x="2585520" y="2320200"/>
              <a:ext cx="2118960" cy="2405880"/>
              <a:chOff x="2585520" y="2320200"/>
              <a:chExt cx="2118960" cy="2405880"/>
            </a:xfrm>
          </p:grpSpPr>
          <p:grpSp>
            <p:nvGrpSpPr>
              <p:cNvPr id="126" name="Group 27"/>
              <p:cNvGrpSpPr/>
              <p:nvPr/>
            </p:nvGrpSpPr>
            <p:grpSpPr>
              <a:xfrm>
                <a:off x="2955240" y="2491200"/>
                <a:ext cx="1441800" cy="1621440"/>
                <a:chOff x="2955240" y="2491200"/>
                <a:chExt cx="1441800" cy="1621440"/>
              </a:xfrm>
            </p:grpSpPr>
            <p:sp>
              <p:nvSpPr>
                <p:cNvPr id="127" name="Line 28"/>
                <p:cNvSpPr/>
                <p:nvPr/>
              </p:nvSpPr>
              <p:spPr>
                <a:xfrm>
                  <a:off x="2955240" y="2491200"/>
                  <a:ext cx="0" cy="162144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9"/>
                <p:cNvSpPr/>
                <p:nvPr/>
              </p:nvSpPr>
              <p:spPr>
                <a:xfrm>
                  <a:off x="2955240" y="4112640"/>
                  <a:ext cx="14418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Line 30"/>
              <p:cNvSpPr/>
              <p:nvPr/>
            </p:nvSpPr>
            <p:spPr>
              <a:xfrm flipV="1">
                <a:off x="2955240" y="2896200"/>
                <a:ext cx="1230840" cy="12164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31"/>
              <p:cNvSpPr/>
              <p:nvPr/>
            </p:nvSpPr>
            <p:spPr>
              <a:xfrm>
                <a:off x="4150440" y="414468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32"/>
              <p:cNvSpPr/>
              <p:nvPr/>
            </p:nvSpPr>
            <p:spPr>
              <a:xfrm>
                <a:off x="2585520" y="24670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33"/>
              <p:cNvSpPr/>
              <p:nvPr/>
            </p:nvSpPr>
            <p:spPr>
              <a:xfrm flipV="1">
                <a:off x="2955240" y="3200400"/>
                <a:ext cx="1441800" cy="9122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34"/>
              <p:cNvSpPr/>
              <p:nvPr/>
            </p:nvSpPr>
            <p:spPr>
              <a:xfrm flipV="1">
                <a:off x="2955240" y="2540880"/>
                <a:ext cx="1018440" cy="157140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35"/>
              <p:cNvSpPr/>
              <p:nvPr/>
            </p:nvSpPr>
            <p:spPr>
              <a:xfrm rot="19397400">
                <a:off x="4228560" y="2288880"/>
                <a:ext cx="212040" cy="953280"/>
              </a:xfrm>
              <a:custGeom>
                <a:avLst/>
                <a:gdLst>
                  <a:gd name="textAreaLeft" fmla="*/ 0 w 212040"/>
                  <a:gd name="textAreaRight" fmla="*/ 76680 w 212040"/>
                  <a:gd name="textAreaTop" fmla="*/ 24840 h 953280"/>
                  <a:gd name="textAreaBottom" fmla="*/ 928440 h 95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828720" y="1231920"/>
            <a:ext cx="219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1/V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709440" y="1233360"/>
            <a:ext cx="160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445080" y="1231920"/>
            <a:ext cx="15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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23640" y="40464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summa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2768400" y="2637000"/>
            <a:ext cx="3930480" cy="1556280"/>
            <a:chOff x="2768400" y="2637000"/>
            <a:chExt cx="3930480" cy="1556280"/>
          </a:xfrm>
        </p:grpSpPr>
        <p:sp>
          <p:nvSpPr>
            <p:cNvPr id="140" name="Text Box 7"/>
            <p:cNvSpPr/>
            <p:nvPr/>
          </p:nvSpPr>
          <p:spPr>
            <a:xfrm>
              <a:off x="2768400" y="26370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pV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8"/>
            <p:cNvSpPr/>
            <p:nvPr/>
          </p:nvSpPr>
          <p:spPr>
            <a:xfrm>
              <a:off x="2984400" y="3429000"/>
              <a:ext cx="52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>
              <a:off x="2838600" y="3429000"/>
              <a:ext cx="7920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0"/>
            <p:cNvSpPr/>
            <p:nvPr/>
          </p:nvSpPr>
          <p:spPr>
            <a:xfrm>
              <a:off x="3921120" y="2925720"/>
              <a:ext cx="2777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= constan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1037880" y="3500280"/>
            <a:ext cx="3815640" cy="1807200"/>
            <a:chOff x="1037880" y="3500280"/>
            <a:chExt cx="3815640" cy="1807200"/>
          </a:xfrm>
        </p:grpSpPr>
        <p:sp>
          <p:nvSpPr>
            <p:cNvPr id="145" name="Freeform 12"/>
            <p:cNvSpPr/>
            <p:nvPr/>
          </p:nvSpPr>
          <p:spPr>
            <a:xfrm>
              <a:off x="1254240" y="3500280"/>
              <a:ext cx="1296720" cy="1081080"/>
            </a:xfrm>
            <a:custGeom>
              <a:avLst/>
              <a:gdLst/>
              <a:ahLst/>
              <a:rect l="l" t="t" r="r" b="b"/>
              <a:pathLst>
                <a:path w="817" h="681">
                  <a:moveTo>
                    <a:pt x="0" y="681"/>
                  </a:moveTo>
                  <a:cubicBezTo>
                    <a:pt x="23" y="511"/>
                    <a:pt x="46" y="341"/>
                    <a:pt x="182" y="227"/>
                  </a:cubicBezTo>
                  <a:cubicBezTo>
                    <a:pt x="318" y="113"/>
                    <a:pt x="567" y="56"/>
                    <a:pt x="817" y="0"/>
                  </a:cubicBezTo>
                </a:path>
              </a:pathLst>
            </a:custGeom>
            <a:noFill/>
            <a:ln cap="sq"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3"/>
            <p:cNvSpPr/>
            <p:nvPr/>
          </p:nvSpPr>
          <p:spPr>
            <a:xfrm>
              <a:off x="1037880" y="4726080"/>
              <a:ext cx="381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For ideal gases onl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1903320" y="5300640"/>
            <a:ext cx="5838480" cy="870480"/>
            <a:chOff x="1903320" y="5300640"/>
            <a:chExt cx="5838480" cy="870480"/>
          </a:xfrm>
        </p:grpSpPr>
        <p:sp>
          <p:nvSpPr>
            <p:cNvPr id="148" name="Text Box 15"/>
            <p:cNvSpPr/>
            <p:nvPr/>
          </p:nvSpPr>
          <p:spPr>
            <a:xfrm>
              <a:off x="2478600" y="5589720"/>
              <a:ext cx="526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A gas that obeys Boyles la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16"/>
            <p:cNvSpPr/>
            <p:nvPr/>
          </p:nvSpPr>
          <p:spPr>
            <a:xfrm rot="16200000">
              <a:off x="2767680" y="4436280"/>
              <a:ext cx="216000" cy="1944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50400 h 1944720"/>
                <a:gd name="textAreaBottom" fmla="*/ 1894320 h 19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420360" y="32868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Ideal g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898200" y="1125360"/>
            <a:ext cx="74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Most gases approximate ideal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78200" y="227664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9933"/>
                </a:solidFill>
                <a:latin typeface="Arial"/>
              </a:rPr>
              <a:t>Ideal gases assume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807840" y="3005280"/>
            <a:ext cx="483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o intermolecular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810000" y="4653000"/>
            <a:ext cx="64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Volume of molecules is negli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808200" y="350028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true - gases form liquids then solids as temperature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808920" y="515772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 true - do have 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2700360" y="3405240"/>
            <a:ext cx="1295280" cy="1614240"/>
            <a:chOff x="2700360" y="3405240"/>
            <a:chExt cx="1295280" cy="1614240"/>
          </a:xfrm>
        </p:grpSpPr>
        <p:sp>
          <p:nvSpPr>
            <p:cNvPr id="158" name="Text Box 3"/>
            <p:cNvSpPr/>
            <p:nvPr/>
          </p:nvSpPr>
          <p:spPr>
            <a:xfrm>
              <a:off x="2780280" y="3405240"/>
              <a:ext cx="11271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r>
                <a:rPr b="0" lang="en-GB" sz="40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en-GB" sz="40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"/>
            <p:cNvSpPr/>
            <p:nvPr/>
          </p:nvSpPr>
          <p:spPr>
            <a:xfrm>
              <a:off x="3076200" y="4232160"/>
              <a:ext cx="6530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GB" sz="40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5"/>
            <p:cNvSpPr/>
            <p:nvPr/>
          </p:nvSpPr>
          <p:spPr>
            <a:xfrm>
              <a:off x="2700360" y="4232160"/>
              <a:ext cx="1295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6"/>
          <p:cNvGrpSpPr/>
          <p:nvPr/>
        </p:nvGrpSpPr>
        <p:grpSpPr>
          <a:xfrm>
            <a:off x="5003640" y="3386160"/>
            <a:ext cx="1223640" cy="1652400"/>
            <a:chOff x="5003640" y="3386160"/>
            <a:chExt cx="1223640" cy="1652400"/>
          </a:xfrm>
        </p:grpSpPr>
        <p:sp>
          <p:nvSpPr>
            <p:cNvPr id="162" name="Text Box 7"/>
            <p:cNvSpPr/>
            <p:nvPr/>
          </p:nvSpPr>
          <p:spPr>
            <a:xfrm>
              <a:off x="5032800" y="3386160"/>
              <a:ext cx="11271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r>
                <a:rPr b="0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5307840" y="4251240"/>
              <a:ext cx="6530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5003640" y="4178520"/>
              <a:ext cx="12236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0"/>
          <p:cNvSpPr/>
          <p:nvPr/>
        </p:nvSpPr>
        <p:spPr>
          <a:xfrm>
            <a:off x="4286880" y="378936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1"/>
          <p:cNvGrpSpPr/>
          <p:nvPr/>
        </p:nvGrpSpPr>
        <p:grpSpPr>
          <a:xfrm>
            <a:off x="3205440" y="404640"/>
            <a:ext cx="2805840" cy="1157400"/>
            <a:chOff x="3205440" y="404640"/>
            <a:chExt cx="2805840" cy="1157400"/>
          </a:xfrm>
        </p:grpSpPr>
        <p:sp>
          <p:nvSpPr>
            <p:cNvPr id="167" name="Text Box 12"/>
            <p:cNvSpPr/>
            <p:nvPr/>
          </p:nvSpPr>
          <p:spPr>
            <a:xfrm>
              <a:off x="3205440" y="40464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p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3348000" y="980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3943800" y="558360"/>
              <a:ext cx="206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= consta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3222720" y="990360"/>
              <a:ext cx="6494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6"/>
          <p:cNvSpPr/>
          <p:nvPr/>
        </p:nvSpPr>
        <p:spPr>
          <a:xfrm>
            <a:off x="468360" y="177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useful if dealing with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gas befor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aft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987640" y="620640"/>
            <a:ext cx="27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Ideal Ga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243240" y="1960560"/>
            <a:ext cx="27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pV = n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85160" y="3141720"/>
            <a:ext cx="758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 = pressure,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 = volume, 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 = number of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 = Molar Gas constant (8.31 J K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l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 = temperature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5"/>
          <p:cNvGrpSpPr/>
          <p:nvPr/>
        </p:nvGrpSpPr>
        <p:grpSpPr>
          <a:xfrm>
            <a:off x="4260960" y="152280"/>
            <a:ext cx="304560" cy="1523880"/>
            <a:chOff x="4260960" y="152280"/>
            <a:chExt cx="304560" cy="1523880"/>
          </a:xfrm>
        </p:grpSpPr>
        <p:sp>
          <p:nvSpPr>
            <p:cNvPr id="176" name="AutoShape 6"/>
            <p:cNvSpPr/>
            <p:nvPr/>
          </p:nvSpPr>
          <p:spPr>
            <a:xfrm>
              <a:off x="4260960" y="1143000"/>
              <a:ext cx="304560" cy="533160"/>
            </a:xfrm>
            <a:prstGeom prst="upArrow">
              <a:avLst>
                <a:gd name="adj1" fmla="val 50000"/>
                <a:gd name="adj2" fmla="val 4376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7"/>
            <p:cNvSpPr/>
            <p:nvPr/>
          </p:nvSpPr>
          <p:spPr>
            <a:xfrm flipV="1">
              <a:off x="4260960" y="151920"/>
              <a:ext cx="304560" cy="533520"/>
            </a:xfrm>
            <a:prstGeom prst="upArrow">
              <a:avLst>
                <a:gd name="adj1" fmla="val 50000"/>
                <a:gd name="adj2" fmla="val 4379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8"/>
          <p:cNvSpPr/>
          <p:nvPr/>
        </p:nvSpPr>
        <p:spPr>
          <a:xfrm>
            <a:off x="1692000" y="5900760"/>
            <a:ext cx="59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Macroscopic model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3134520" y="1457280"/>
            <a:ext cx="273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pV = Nk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39640" y="2924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 = number of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 = Boltzmann’s constant (1.38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J K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49840" y="54936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can also be written a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78360" y="874800"/>
            <a:ext cx="77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there was a box and one molecule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81240" y="5675400"/>
            <a:ext cx="414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ecule:- mass =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locity 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2219400" y="1619280"/>
            <a:ext cx="5018040" cy="4043160"/>
            <a:chOff x="2219400" y="1619280"/>
            <a:chExt cx="5018040" cy="4043160"/>
          </a:xfrm>
        </p:grpSpPr>
        <p:grpSp>
          <p:nvGrpSpPr>
            <p:cNvPr id="185" name="Group 5"/>
            <p:cNvGrpSpPr/>
            <p:nvPr/>
          </p:nvGrpSpPr>
          <p:grpSpPr>
            <a:xfrm>
              <a:off x="2219400" y="1636560"/>
              <a:ext cx="5018040" cy="4025880"/>
              <a:chOff x="2219400" y="1636560"/>
              <a:chExt cx="5018040" cy="4025880"/>
            </a:xfrm>
          </p:grpSpPr>
          <p:sp>
            <p:nvSpPr>
              <p:cNvPr id="186" name="Text Box 6"/>
              <p:cNvSpPr/>
              <p:nvPr/>
            </p:nvSpPr>
            <p:spPr>
              <a:xfrm>
                <a:off x="3652200" y="50810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7"/>
              <p:cNvSpPr/>
              <p:nvPr/>
            </p:nvSpPr>
            <p:spPr>
              <a:xfrm>
                <a:off x="6487560" y="4303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ff0000"/>
                    </a:solidFill>
                    <a:latin typeface="Arial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8"/>
              <p:cNvSpPr/>
              <p:nvPr/>
            </p:nvSpPr>
            <p:spPr>
              <a:xfrm>
                <a:off x="6852600" y="24901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bbe0e3"/>
                    </a:solidFill>
                    <a:latin typeface="Arial"/>
                  </a:rPr>
                  <a:t>z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9"/>
              <p:cNvSpPr/>
              <p:nvPr/>
            </p:nvSpPr>
            <p:spPr>
              <a:xfrm>
                <a:off x="6791400" y="1636560"/>
                <a:ext cx="0" cy="2437920"/>
              </a:xfrm>
              <a:prstGeom prst="line">
                <a:avLst/>
              </a:prstGeom>
              <a:ln w="38160">
                <a:solidFill>
                  <a:srgbClr val="bbe0e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0"/>
              <p:cNvSpPr/>
              <p:nvPr/>
            </p:nvSpPr>
            <p:spPr>
              <a:xfrm flipH="1">
                <a:off x="6028920" y="4150800"/>
                <a:ext cx="762120" cy="76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1"/>
              <p:cNvSpPr/>
              <p:nvPr/>
            </p:nvSpPr>
            <p:spPr>
              <a:xfrm>
                <a:off x="2219400" y="5065200"/>
                <a:ext cx="358128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2"/>
            <p:cNvGrpSpPr/>
            <p:nvPr/>
          </p:nvGrpSpPr>
          <p:grpSpPr>
            <a:xfrm>
              <a:off x="2219400" y="1636560"/>
              <a:ext cx="4419360" cy="3276360"/>
              <a:chOff x="2219400" y="1636560"/>
              <a:chExt cx="4419360" cy="3276360"/>
            </a:xfrm>
          </p:grpSpPr>
          <p:sp>
            <p:nvSpPr>
              <p:cNvPr id="193" name="AutoShape 13"/>
              <p:cNvSpPr/>
              <p:nvPr/>
            </p:nvSpPr>
            <p:spPr>
              <a:xfrm>
                <a:off x="2219400" y="1636560"/>
                <a:ext cx="4419360" cy="3276360"/>
              </a:xfrm>
              <a:prstGeom prst="cube">
                <a:avLst>
                  <a:gd name="adj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14"/>
              <p:cNvSpPr/>
              <p:nvPr/>
            </p:nvSpPr>
            <p:spPr>
              <a:xfrm>
                <a:off x="3895560" y="3312720"/>
                <a:ext cx="228600" cy="228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"/>
            <p:cNvGrpSpPr/>
            <p:nvPr/>
          </p:nvGrpSpPr>
          <p:grpSpPr>
            <a:xfrm>
              <a:off x="3972960" y="2855880"/>
              <a:ext cx="456120" cy="581400"/>
              <a:chOff x="3972960" y="2855880"/>
              <a:chExt cx="456120" cy="581400"/>
            </a:xfrm>
          </p:grpSpPr>
          <p:sp>
            <p:nvSpPr>
              <p:cNvPr id="196" name="Line 16"/>
              <p:cNvSpPr/>
              <p:nvPr/>
            </p:nvSpPr>
            <p:spPr>
              <a:xfrm>
                <a:off x="4124160" y="342684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17"/>
              <p:cNvSpPr/>
              <p:nvPr/>
            </p:nvSpPr>
            <p:spPr>
              <a:xfrm>
                <a:off x="3972960" y="28558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8"/>
            <p:cNvGrpSpPr/>
            <p:nvPr/>
          </p:nvGrpSpPr>
          <p:grpSpPr>
            <a:xfrm>
              <a:off x="2268000" y="1619280"/>
              <a:ext cx="4391280" cy="3237840"/>
              <a:chOff x="2268000" y="1619280"/>
              <a:chExt cx="4391280" cy="3237840"/>
            </a:xfrm>
          </p:grpSpPr>
          <p:sp>
            <p:nvSpPr>
              <p:cNvPr id="199" name="Line 19"/>
              <p:cNvSpPr/>
              <p:nvPr/>
            </p:nvSpPr>
            <p:spPr>
              <a:xfrm>
                <a:off x="3059280" y="1619280"/>
                <a:ext cx="0" cy="2447640"/>
              </a:xfrm>
              <a:prstGeom prst="line">
                <a:avLst/>
              </a:prstGeom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 flipH="1">
                <a:off x="3058920" y="4066920"/>
                <a:ext cx="3600360" cy="0"/>
              </a:xfrm>
              <a:prstGeom prst="line">
                <a:avLst/>
              </a:prstGeom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21"/>
              <p:cNvSpPr/>
              <p:nvPr/>
            </p:nvSpPr>
            <p:spPr>
              <a:xfrm flipH="1">
                <a:off x="2268000" y="4066920"/>
                <a:ext cx="790920" cy="790200"/>
              </a:xfrm>
              <a:prstGeom prst="line">
                <a:avLst/>
              </a:prstGeom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Text Box 22"/>
          <p:cNvSpPr/>
          <p:nvPr/>
        </p:nvSpPr>
        <p:spPr>
          <a:xfrm>
            <a:off x="2905200" y="158760"/>
            <a:ext cx="27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Kinetic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439560" y="320760"/>
            <a:ext cx="81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ecule hits side of box…(elastic collis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2895480" y="90792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2209680" y="1212840"/>
            <a:ext cx="533520" cy="685800"/>
            <a:chOff x="2209680" y="1212840"/>
            <a:chExt cx="533520" cy="685800"/>
          </a:xfrm>
        </p:grpSpPr>
        <p:grpSp>
          <p:nvGrpSpPr>
            <p:cNvPr id="206" name="Group 5"/>
            <p:cNvGrpSpPr/>
            <p:nvPr/>
          </p:nvGrpSpPr>
          <p:grpSpPr>
            <a:xfrm>
              <a:off x="2287080" y="1212840"/>
              <a:ext cx="456120" cy="581400"/>
              <a:chOff x="2287080" y="1212840"/>
              <a:chExt cx="456120" cy="581400"/>
            </a:xfrm>
          </p:grpSpPr>
          <p:sp>
            <p:nvSpPr>
              <p:cNvPr id="207" name="Line 6"/>
              <p:cNvSpPr/>
              <p:nvPr/>
            </p:nvSpPr>
            <p:spPr>
              <a:xfrm>
                <a:off x="2438280" y="178416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7"/>
              <p:cNvSpPr/>
              <p:nvPr/>
            </p:nvSpPr>
            <p:spPr>
              <a:xfrm>
                <a:off x="2287080" y="12128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Oval 8"/>
            <p:cNvSpPr/>
            <p:nvPr/>
          </p:nvSpPr>
          <p:spPr>
            <a:xfrm>
              <a:off x="2209680" y="167004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9"/>
          <p:cNvGrpSpPr/>
          <p:nvPr/>
        </p:nvGrpSpPr>
        <p:grpSpPr>
          <a:xfrm>
            <a:off x="1905120" y="1974960"/>
            <a:ext cx="533160" cy="685800"/>
            <a:chOff x="1905120" y="1974960"/>
            <a:chExt cx="533160" cy="685800"/>
          </a:xfrm>
        </p:grpSpPr>
        <p:sp>
          <p:nvSpPr>
            <p:cNvPr id="211" name="Line 10"/>
            <p:cNvSpPr/>
            <p:nvPr/>
          </p:nvSpPr>
          <p:spPr>
            <a:xfrm>
              <a:off x="1905120" y="25466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1"/>
            <p:cNvSpPr/>
            <p:nvPr/>
          </p:nvSpPr>
          <p:spPr>
            <a:xfrm>
              <a:off x="1905840" y="197496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-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2"/>
            <p:cNvSpPr/>
            <p:nvPr/>
          </p:nvSpPr>
          <p:spPr>
            <a:xfrm>
              <a:off x="2209680" y="24321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13"/>
          <p:cNvGrpSpPr/>
          <p:nvPr/>
        </p:nvGrpSpPr>
        <p:grpSpPr>
          <a:xfrm>
            <a:off x="1117440" y="4098960"/>
            <a:ext cx="3263040" cy="718200"/>
            <a:chOff x="1117440" y="4098960"/>
            <a:chExt cx="3263040" cy="718200"/>
          </a:xfrm>
        </p:grpSpPr>
        <p:sp>
          <p:nvSpPr>
            <p:cNvPr id="215" name="Text Box 14"/>
            <p:cNvSpPr/>
            <p:nvPr/>
          </p:nvSpPr>
          <p:spPr>
            <a:xfrm>
              <a:off x="3236400" y="4098960"/>
              <a:ext cx="1144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r>
                <a:rPr b="0" lang="en-GB" sz="3600" spc="-1" strike="noStrike" baseline="-25000">
                  <a:solidFill>
                    <a:srgbClr val="ff0000"/>
                  </a:solidFill>
                  <a:latin typeface="Arial"/>
                </a:rPr>
                <a:t>mo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1117440" y="4149360"/>
              <a:ext cx="180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6"/>
          <p:cNvSpPr/>
          <p:nvPr/>
        </p:nvSpPr>
        <p:spPr>
          <a:xfrm>
            <a:off x="3203640" y="4941720"/>
            <a:ext cx="562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3600" spc="-1" strike="noStrike" baseline="-25000">
                <a:solidFill>
                  <a:srgbClr val="ff0000"/>
                </a:solidFill>
                <a:latin typeface="Arial"/>
              </a:rPr>
              <a:t>box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= -</a:t>
            </a:r>
            <a:r>
              <a:rPr b="0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GB" sz="3600" spc="-1" strike="noStrike" baseline="-25000">
                <a:solidFill>
                  <a:srgbClr val="ff0000"/>
                </a:solidFill>
                <a:latin typeface="Arial"/>
              </a:rPr>
              <a:t>mol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= 2m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1117080" y="501804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826920" y="3141720"/>
            <a:ext cx="2808360" cy="1152360"/>
            <a:chOff x="826920" y="3141720"/>
            <a:chExt cx="2808360" cy="1152360"/>
          </a:xfrm>
        </p:grpSpPr>
        <p:sp>
          <p:nvSpPr>
            <p:cNvPr id="220" name="Text Box 19"/>
            <p:cNvSpPr/>
            <p:nvPr/>
          </p:nvSpPr>
          <p:spPr>
            <a:xfrm>
              <a:off x="1082880" y="3222720"/>
              <a:ext cx="164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mv - m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0"/>
            <p:cNvSpPr/>
            <p:nvPr/>
          </p:nvSpPr>
          <p:spPr>
            <a:xfrm>
              <a:off x="826920" y="3141720"/>
              <a:ext cx="2160720" cy="743040"/>
            </a:xfrm>
            <a:prstGeom prst="ellipse">
              <a:avLst/>
            </a:prstGeom>
            <a:noFill/>
            <a:ln cap="sq"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2700360" y="3789360"/>
              <a:ext cx="934920" cy="504720"/>
            </a:xfrm>
            <a:prstGeom prst="line">
              <a:avLst/>
            </a:prstGeom>
            <a:ln cap="sq" w="76320">
              <a:solidFill>
                <a:srgbClr val="3333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22"/>
          <p:cNvSpPr/>
          <p:nvPr/>
        </p:nvSpPr>
        <p:spPr>
          <a:xfrm>
            <a:off x="4336560" y="4097160"/>
            <a:ext cx="38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= -mv - mv = -2m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3"/>
          <p:cNvSpPr/>
          <p:nvPr/>
        </p:nvSpPr>
        <p:spPr>
          <a:xfrm flipV="1">
            <a:off x="2916360" y="979200"/>
            <a:ext cx="14292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4"/>
          <p:cNvSpPr/>
          <p:nvPr/>
        </p:nvSpPr>
        <p:spPr>
          <a:xfrm flipV="1">
            <a:off x="2916360" y="1195200"/>
            <a:ext cx="14292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5"/>
          <p:cNvSpPr/>
          <p:nvPr/>
        </p:nvSpPr>
        <p:spPr>
          <a:xfrm flipV="1">
            <a:off x="2916360" y="1411200"/>
            <a:ext cx="142920" cy="144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6"/>
          <p:cNvSpPr/>
          <p:nvPr/>
        </p:nvSpPr>
        <p:spPr>
          <a:xfrm flipV="1">
            <a:off x="2916360" y="1626840"/>
            <a:ext cx="14292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7"/>
          <p:cNvSpPr/>
          <p:nvPr/>
        </p:nvSpPr>
        <p:spPr>
          <a:xfrm flipV="1">
            <a:off x="2916360" y="1842840"/>
            <a:ext cx="14292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8"/>
          <p:cNvSpPr/>
          <p:nvPr/>
        </p:nvSpPr>
        <p:spPr>
          <a:xfrm flipV="1">
            <a:off x="2916360" y="2058840"/>
            <a:ext cx="142920" cy="144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9"/>
          <p:cNvSpPr/>
          <p:nvPr/>
        </p:nvSpPr>
        <p:spPr>
          <a:xfrm flipV="1">
            <a:off x="2916360" y="2274480"/>
            <a:ext cx="14292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0"/>
          <p:cNvSpPr/>
          <p:nvPr/>
        </p:nvSpPr>
        <p:spPr>
          <a:xfrm flipV="1">
            <a:off x="2916360" y="2490480"/>
            <a:ext cx="14292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 flipV="1">
            <a:off x="2916360" y="2706480"/>
            <a:ext cx="142920" cy="144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 flipV="1">
            <a:off x="2916360" y="2922480"/>
            <a:ext cx="142920" cy="144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3"/>
          <p:cNvGrpSpPr/>
          <p:nvPr/>
        </p:nvGrpSpPr>
        <p:grpSpPr>
          <a:xfrm>
            <a:off x="5105520" y="984240"/>
            <a:ext cx="2922480" cy="2209680"/>
            <a:chOff x="5105520" y="984240"/>
            <a:chExt cx="2922480" cy="2209680"/>
          </a:xfrm>
        </p:grpSpPr>
        <p:sp>
          <p:nvSpPr>
            <p:cNvPr id="235" name="Line 34"/>
            <p:cNvSpPr/>
            <p:nvPr/>
          </p:nvSpPr>
          <p:spPr>
            <a:xfrm>
              <a:off x="6516720" y="984240"/>
              <a:ext cx="0" cy="22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35"/>
            <p:cNvSpPr/>
            <p:nvPr/>
          </p:nvSpPr>
          <p:spPr>
            <a:xfrm>
              <a:off x="6808680" y="1822320"/>
              <a:ext cx="1219320" cy="304920"/>
            </a:xfrm>
            <a:prstGeom prst="rightArrow">
              <a:avLst>
                <a:gd name="adj1" fmla="val 50000"/>
                <a:gd name="adj2" fmla="val 999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36"/>
            <p:cNvSpPr/>
            <p:nvPr/>
          </p:nvSpPr>
          <p:spPr>
            <a:xfrm flipH="1">
              <a:off x="5105520" y="1822320"/>
              <a:ext cx="1218960" cy="304920"/>
            </a:xfrm>
            <a:prstGeom prst="rightArrow">
              <a:avLst>
                <a:gd name="adj1" fmla="val 50000"/>
                <a:gd name="adj2" fmla="val 99941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7"/>
            <p:cNvSpPr/>
            <p:nvPr/>
          </p:nvSpPr>
          <p:spPr>
            <a:xfrm>
              <a:off x="7038360" y="2141640"/>
              <a:ext cx="9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2m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8"/>
            <p:cNvSpPr/>
            <p:nvPr/>
          </p:nvSpPr>
          <p:spPr>
            <a:xfrm>
              <a:off x="5161680" y="2143080"/>
              <a:ext cx="108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-2m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9"/>
            <p:cNvSpPr/>
            <p:nvPr/>
          </p:nvSpPr>
          <p:spPr>
            <a:xfrm flipV="1">
              <a:off x="6516720" y="1052280"/>
              <a:ext cx="142920" cy="144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40"/>
            <p:cNvSpPr/>
            <p:nvPr/>
          </p:nvSpPr>
          <p:spPr>
            <a:xfrm flipV="1">
              <a:off x="6516720" y="1268280"/>
              <a:ext cx="142920" cy="144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41"/>
            <p:cNvSpPr/>
            <p:nvPr/>
          </p:nvSpPr>
          <p:spPr>
            <a:xfrm flipV="1">
              <a:off x="6516720" y="1484280"/>
              <a:ext cx="142920" cy="144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2"/>
            <p:cNvSpPr/>
            <p:nvPr/>
          </p:nvSpPr>
          <p:spPr>
            <a:xfrm flipV="1">
              <a:off x="6516720" y="1699920"/>
              <a:ext cx="142920" cy="144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3"/>
            <p:cNvSpPr/>
            <p:nvPr/>
          </p:nvSpPr>
          <p:spPr>
            <a:xfrm flipV="1">
              <a:off x="6516720" y="1915920"/>
              <a:ext cx="142920" cy="144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4"/>
            <p:cNvSpPr/>
            <p:nvPr/>
          </p:nvSpPr>
          <p:spPr>
            <a:xfrm flipV="1">
              <a:off x="6516720" y="2131920"/>
              <a:ext cx="142920" cy="144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5"/>
            <p:cNvSpPr/>
            <p:nvPr/>
          </p:nvSpPr>
          <p:spPr>
            <a:xfrm flipV="1">
              <a:off x="6516720" y="2347560"/>
              <a:ext cx="142920" cy="144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6"/>
            <p:cNvSpPr/>
            <p:nvPr/>
          </p:nvSpPr>
          <p:spPr>
            <a:xfrm flipV="1">
              <a:off x="6516720" y="2563560"/>
              <a:ext cx="142920" cy="144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47"/>
            <p:cNvSpPr/>
            <p:nvPr/>
          </p:nvSpPr>
          <p:spPr>
            <a:xfrm flipV="1">
              <a:off x="6516720" y="2779560"/>
              <a:ext cx="142920" cy="144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8"/>
            <p:cNvSpPr/>
            <p:nvPr/>
          </p:nvSpPr>
          <p:spPr>
            <a:xfrm flipV="1">
              <a:off x="6516720" y="2995560"/>
              <a:ext cx="142920" cy="144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49"/>
          <p:cNvGrpSpPr/>
          <p:nvPr/>
        </p:nvGrpSpPr>
        <p:grpSpPr>
          <a:xfrm>
            <a:off x="321480" y="5734080"/>
            <a:ext cx="8546040" cy="1081440"/>
            <a:chOff x="321480" y="5734080"/>
            <a:chExt cx="8546040" cy="1081440"/>
          </a:xfrm>
        </p:grpSpPr>
        <p:sp>
          <p:nvSpPr>
            <p:cNvPr id="251" name="Text Box 50"/>
            <p:cNvSpPr/>
            <p:nvPr/>
          </p:nvSpPr>
          <p:spPr>
            <a:xfrm>
              <a:off x="321480" y="5734080"/>
              <a:ext cx="85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Remember </a:t>
              </a:r>
              <a:r>
                <a:rPr b="0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p = F so a force is felt by the box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51"/>
            <p:cNvSpPr/>
            <p:nvPr/>
          </p:nvSpPr>
          <p:spPr>
            <a:xfrm>
              <a:off x="2621160" y="62341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52"/>
            <p:cNvSpPr/>
            <p:nvPr/>
          </p:nvSpPr>
          <p:spPr>
            <a:xfrm>
              <a:off x="2556000" y="6308640"/>
              <a:ext cx="4316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/>
          <p:cNvSpPr/>
          <p:nvPr/>
        </p:nvSpPr>
        <p:spPr>
          <a:xfrm flipH="1" rot="5400000">
            <a:off x="4535280" y="3104640"/>
            <a:ext cx="3313080" cy="792000"/>
          </a:xfrm>
          <a:prstGeom prst="parallelogram">
            <a:avLst>
              <a:gd name="adj" fmla="val 101210"/>
            </a:avLst>
          </a:prstGeom>
          <a:solidFill>
            <a:srgbClr val="cc00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593640" y="396720"/>
            <a:ext cx="82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ecule collides with side of box, rebounds, hits other side and rebounds back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3894120" y="36702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89080" y="5605560"/>
            <a:ext cx="62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between hitting same side,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6561000" y="5410080"/>
            <a:ext cx="880920" cy="1099800"/>
            <a:chOff x="6561000" y="5410080"/>
            <a:chExt cx="880920" cy="1099800"/>
          </a:xfrm>
        </p:grpSpPr>
        <p:sp>
          <p:nvSpPr>
            <p:cNvPr id="259" name="Text Box 7"/>
            <p:cNvSpPr/>
            <p:nvPr/>
          </p:nvSpPr>
          <p:spPr>
            <a:xfrm>
              <a:off x="7032600" y="5867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702000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9"/>
            <p:cNvSpPr/>
            <p:nvPr/>
          </p:nvSpPr>
          <p:spPr>
            <a:xfrm>
              <a:off x="7047000" y="6019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6561000" y="5638680"/>
              <a:ext cx="45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11"/>
          <p:cNvGrpSpPr/>
          <p:nvPr/>
        </p:nvGrpSpPr>
        <p:grpSpPr>
          <a:xfrm>
            <a:off x="7553160" y="5410080"/>
            <a:ext cx="1121040" cy="1099800"/>
            <a:chOff x="7553160" y="5410080"/>
            <a:chExt cx="1121040" cy="1099800"/>
          </a:xfrm>
        </p:grpSpPr>
        <p:sp>
          <p:nvSpPr>
            <p:cNvPr id="264" name="Text Box 12"/>
            <p:cNvSpPr/>
            <p:nvPr/>
          </p:nvSpPr>
          <p:spPr>
            <a:xfrm>
              <a:off x="8137440" y="5867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3"/>
            <p:cNvSpPr/>
            <p:nvPr/>
          </p:nvSpPr>
          <p:spPr>
            <a:xfrm>
              <a:off x="8151840" y="6019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4"/>
            <p:cNvSpPr/>
            <p:nvPr/>
          </p:nvSpPr>
          <p:spPr>
            <a:xfrm>
              <a:off x="7553160" y="5638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5"/>
            <p:cNvSpPr/>
            <p:nvPr/>
          </p:nvSpPr>
          <p:spPr>
            <a:xfrm>
              <a:off x="8010360" y="5410080"/>
              <a:ext cx="66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2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6"/>
          <p:cNvGrpSpPr/>
          <p:nvPr/>
        </p:nvGrpSpPr>
        <p:grpSpPr>
          <a:xfrm>
            <a:off x="2219400" y="1843200"/>
            <a:ext cx="5018040" cy="4026240"/>
            <a:chOff x="2219400" y="1843200"/>
            <a:chExt cx="5018040" cy="4026240"/>
          </a:xfrm>
        </p:grpSpPr>
        <p:sp>
          <p:nvSpPr>
            <p:cNvPr id="269" name="Text Box 17"/>
            <p:cNvSpPr/>
            <p:nvPr/>
          </p:nvSpPr>
          <p:spPr>
            <a:xfrm>
              <a:off x="3652200" y="5288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6487560" y="451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852600" y="2697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bbe0e3"/>
                  </a:solidFill>
                  <a:latin typeface="Arial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20"/>
            <p:cNvSpPr/>
            <p:nvPr/>
          </p:nvSpPr>
          <p:spPr>
            <a:xfrm>
              <a:off x="6791400" y="1843200"/>
              <a:ext cx="0" cy="2438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21"/>
            <p:cNvSpPr/>
            <p:nvPr/>
          </p:nvSpPr>
          <p:spPr>
            <a:xfrm flipH="1">
              <a:off x="6028920" y="4357800"/>
              <a:ext cx="76212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22"/>
            <p:cNvSpPr/>
            <p:nvPr/>
          </p:nvSpPr>
          <p:spPr>
            <a:xfrm>
              <a:off x="2219400" y="5272200"/>
              <a:ext cx="35812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23"/>
            <p:cNvSpPr/>
            <p:nvPr/>
          </p:nvSpPr>
          <p:spPr>
            <a:xfrm>
              <a:off x="2219400" y="1843200"/>
              <a:ext cx="4419360" cy="3276360"/>
            </a:xfrm>
            <a:prstGeom prst="cube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Line 24"/>
          <p:cNvSpPr/>
          <p:nvPr/>
        </p:nvSpPr>
        <p:spPr>
          <a:xfrm>
            <a:off x="3059280" y="1844640"/>
            <a:ext cx="0" cy="2448000"/>
          </a:xfrm>
          <a:prstGeom prst="line">
            <a:avLst/>
          </a:prstGeom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5"/>
          <p:cNvSpPr/>
          <p:nvPr/>
        </p:nvSpPr>
        <p:spPr>
          <a:xfrm flipH="1">
            <a:off x="3058920" y="4292640"/>
            <a:ext cx="3600360" cy="0"/>
          </a:xfrm>
          <a:prstGeom prst="line">
            <a:avLst/>
          </a:prstGeom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6"/>
          <p:cNvSpPr/>
          <p:nvPr/>
        </p:nvSpPr>
        <p:spPr>
          <a:xfrm flipH="1">
            <a:off x="2268000" y="4292640"/>
            <a:ext cx="790920" cy="790560"/>
          </a:xfrm>
          <a:prstGeom prst="line">
            <a:avLst/>
          </a:prstGeom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00047 L 0.23941 0.00047 L -0.16215 0.00047 L 0.24097 0.00047 L -0.04149 0.00047 E">
                                      <p:cBhvr>
                                        <p:cTn id="152" dur="5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1">
                                  <p:stCondLst>
                                    <p:cond delay="9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1">
                                  <p:stCondLst>
                                    <p:cond delay="39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newcomen"/>
          <p:cNvPicPr/>
          <p:nvPr/>
        </p:nvPicPr>
        <p:blipFill>
          <a:blip r:embed="rId1"/>
          <a:stretch/>
        </p:blipFill>
        <p:spPr>
          <a:xfrm>
            <a:off x="1795320" y="1343160"/>
            <a:ext cx="555336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247680" y="404640"/>
            <a:ext cx="83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erage force, exerted by 1 molecule on bo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1405080" y="1484280"/>
            <a:ext cx="1627920" cy="1346040"/>
            <a:chOff x="1405080" y="1484280"/>
            <a:chExt cx="1627920" cy="1346040"/>
          </a:xfrm>
        </p:grpSpPr>
        <p:sp>
          <p:nvSpPr>
            <p:cNvPr id="281" name="Text Box 4"/>
            <p:cNvSpPr/>
            <p:nvPr/>
          </p:nvSpPr>
          <p:spPr>
            <a:xfrm>
              <a:off x="1405080" y="1484280"/>
              <a:ext cx="1069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F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"/>
            <p:cNvSpPr/>
            <p:nvPr/>
          </p:nvSpPr>
          <p:spPr>
            <a:xfrm>
              <a:off x="2259360" y="1484280"/>
              <a:ext cx="77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6"/>
            <p:cNvSpPr/>
            <p:nvPr/>
          </p:nvSpPr>
          <p:spPr>
            <a:xfrm>
              <a:off x="2410920" y="2126880"/>
              <a:ext cx="3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7"/>
            <p:cNvSpPr/>
            <p:nvPr/>
          </p:nvSpPr>
          <p:spPr>
            <a:xfrm>
              <a:off x="2257200" y="21762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8"/>
          <p:cNvGrpSpPr/>
          <p:nvPr/>
        </p:nvGrpSpPr>
        <p:grpSpPr>
          <a:xfrm>
            <a:off x="3294000" y="1512720"/>
            <a:ext cx="1463760" cy="1285560"/>
            <a:chOff x="3294000" y="1512720"/>
            <a:chExt cx="1463760" cy="1285560"/>
          </a:xfrm>
        </p:grpSpPr>
        <p:sp>
          <p:nvSpPr>
            <p:cNvPr id="286" name="Text Box 9"/>
            <p:cNvSpPr/>
            <p:nvPr/>
          </p:nvSpPr>
          <p:spPr>
            <a:xfrm>
              <a:off x="3294000" y="1512720"/>
              <a:ext cx="146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= </a:t>
              </a:r>
              <a:r>
                <a:rPr b="0" lang="en-GB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p 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0"/>
            <p:cNvSpPr/>
            <p:nvPr/>
          </p:nvSpPr>
          <p:spPr>
            <a:xfrm>
              <a:off x="3843000" y="2155680"/>
              <a:ext cx="66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2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1"/>
            <p:cNvSpPr/>
            <p:nvPr/>
          </p:nvSpPr>
          <p:spPr>
            <a:xfrm>
              <a:off x="3765600" y="2155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2"/>
          <p:cNvGrpSpPr/>
          <p:nvPr/>
        </p:nvGrpSpPr>
        <p:grpSpPr>
          <a:xfrm>
            <a:off x="4894560" y="1512720"/>
            <a:ext cx="1793160" cy="1285560"/>
            <a:chOff x="4894560" y="1512720"/>
            <a:chExt cx="1793160" cy="1285560"/>
          </a:xfrm>
        </p:grpSpPr>
        <p:sp>
          <p:nvSpPr>
            <p:cNvPr id="290" name="Text Box 13"/>
            <p:cNvSpPr/>
            <p:nvPr/>
          </p:nvSpPr>
          <p:spPr>
            <a:xfrm>
              <a:off x="4894560" y="1512720"/>
              <a:ext cx="179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= 2mv 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4"/>
            <p:cNvSpPr/>
            <p:nvPr/>
          </p:nvSpPr>
          <p:spPr>
            <a:xfrm>
              <a:off x="5671800" y="2155680"/>
              <a:ext cx="66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2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5365800" y="215568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16"/>
          <p:cNvGrpSpPr/>
          <p:nvPr/>
        </p:nvGrpSpPr>
        <p:grpSpPr>
          <a:xfrm>
            <a:off x="6810120" y="1512720"/>
            <a:ext cx="1331640" cy="1285560"/>
            <a:chOff x="6810120" y="1512720"/>
            <a:chExt cx="1331640" cy="1285560"/>
          </a:xfrm>
        </p:grpSpPr>
        <p:sp>
          <p:nvSpPr>
            <p:cNvPr id="294" name="Text Box 17"/>
            <p:cNvSpPr/>
            <p:nvPr/>
          </p:nvSpPr>
          <p:spPr>
            <a:xfrm>
              <a:off x="6810120" y="1512720"/>
              <a:ext cx="13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= mv</a:t>
              </a:r>
              <a:r>
                <a:rPr b="0" lang="en-GB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8"/>
            <p:cNvSpPr/>
            <p:nvPr/>
          </p:nvSpPr>
          <p:spPr>
            <a:xfrm>
              <a:off x="7408800" y="21556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9"/>
            <p:cNvSpPr/>
            <p:nvPr/>
          </p:nvSpPr>
          <p:spPr>
            <a:xfrm>
              <a:off x="7254720" y="215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Line 20"/>
          <p:cNvSpPr/>
          <p:nvPr/>
        </p:nvSpPr>
        <p:spPr>
          <a:xfrm>
            <a:off x="1469880" y="4581360"/>
            <a:ext cx="6126480" cy="0"/>
          </a:xfrm>
          <a:prstGeom prst="line">
            <a:avLst/>
          </a:prstGeom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21"/>
          <p:cNvGrpSpPr/>
          <p:nvPr/>
        </p:nvGrpSpPr>
        <p:grpSpPr>
          <a:xfrm>
            <a:off x="0" y="3573360"/>
            <a:ext cx="8751960" cy="2519640"/>
            <a:chOff x="0" y="3573360"/>
            <a:chExt cx="8751960" cy="2519640"/>
          </a:xfrm>
        </p:grpSpPr>
        <p:grpSp>
          <p:nvGrpSpPr>
            <p:cNvPr id="299" name="Group 22"/>
            <p:cNvGrpSpPr/>
            <p:nvPr/>
          </p:nvGrpSpPr>
          <p:grpSpPr>
            <a:xfrm>
              <a:off x="0" y="3573360"/>
              <a:ext cx="7740720" cy="2519640"/>
              <a:chOff x="0" y="3573360"/>
              <a:chExt cx="7740720" cy="2519640"/>
            </a:xfrm>
          </p:grpSpPr>
          <p:sp>
            <p:nvSpPr>
              <p:cNvPr id="300" name="Line 23"/>
              <p:cNvSpPr/>
              <p:nvPr/>
            </p:nvSpPr>
            <p:spPr>
              <a:xfrm>
                <a:off x="1469880" y="3716280"/>
                <a:ext cx="0" cy="23767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24"/>
              <p:cNvSpPr/>
              <p:nvPr/>
            </p:nvSpPr>
            <p:spPr>
              <a:xfrm>
                <a:off x="1469880" y="4941720"/>
                <a:ext cx="6270840" cy="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25"/>
              <p:cNvSpPr/>
              <p:nvPr/>
            </p:nvSpPr>
            <p:spPr>
              <a:xfrm>
                <a:off x="0" y="3573360"/>
                <a:ext cx="169236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Force exerted on bo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Text Box 26"/>
            <p:cNvSpPr/>
            <p:nvPr/>
          </p:nvSpPr>
          <p:spPr>
            <a:xfrm>
              <a:off x="7669080" y="486900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27"/>
          <p:cNvSpPr/>
          <p:nvPr/>
        </p:nvSpPr>
        <p:spPr>
          <a:xfrm>
            <a:off x="6374880" y="3357720"/>
            <a:ext cx="25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verage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8"/>
          <p:cNvSpPr/>
          <p:nvPr/>
        </p:nvSpPr>
        <p:spPr>
          <a:xfrm>
            <a:off x="7308720" y="3860640"/>
            <a:ext cx="516240" cy="648000"/>
          </a:xfrm>
          <a:custGeom>
            <a:avLst/>
            <a:gdLst>
              <a:gd name="textAreaLeft" fmla="*/ 0 w 516240"/>
              <a:gd name="textAreaRight" fmla="*/ 516600 w 516240"/>
              <a:gd name="textAreaTop" fmla="*/ 0 h 648000"/>
              <a:gd name="textAreaBottom" fmla="*/ 648360 h 648000"/>
            </a:gdLst>
            <a:ahLst/>
            <a:rect l="textAreaLeft" t="textAreaTop" r="textAreaRight" b="textAreaBottom"/>
            <a:pathLst>
              <a:path w="325" h="408">
                <a:moveTo>
                  <a:pt x="318" y="0"/>
                </a:moveTo>
                <a:cubicBezTo>
                  <a:pt x="321" y="79"/>
                  <a:pt x="325" y="158"/>
                  <a:pt x="272" y="226"/>
                </a:cubicBezTo>
                <a:cubicBezTo>
                  <a:pt x="219" y="294"/>
                  <a:pt x="109" y="351"/>
                  <a:pt x="0" y="408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9"/>
          <p:cNvGrpSpPr/>
          <p:nvPr/>
        </p:nvGrpSpPr>
        <p:grpSpPr>
          <a:xfrm>
            <a:off x="2478240" y="4005000"/>
            <a:ext cx="4681080" cy="2176560"/>
            <a:chOff x="2478240" y="4005000"/>
            <a:chExt cx="4681080" cy="2176560"/>
          </a:xfrm>
        </p:grpSpPr>
        <p:sp>
          <p:nvSpPr>
            <p:cNvPr id="307" name="Line 30"/>
            <p:cNvSpPr/>
            <p:nvPr/>
          </p:nvSpPr>
          <p:spPr>
            <a:xfrm flipV="1">
              <a:off x="2478240" y="4005000"/>
              <a:ext cx="360360" cy="936360"/>
            </a:xfrm>
            <a:prstGeom prst="line">
              <a:avLst/>
            </a:prstGeom>
            <a:ln cap="sq"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1"/>
            <p:cNvSpPr/>
            <p:nvPr/>
          </p:nvSpPr>
          <p:spPr>
            <a:xfrm flipH="1" flipV="1">
              <a:off x="2838240" y="4005000"/>
              <a:ext cx="360360" cy="936360"/>
            </a:xfrm>
            <a:prstGeom prst="line">
              <a:avLst/>
            </a:prstGeom>
            <a:ln cap="sq"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32"/>
            <p:cNvSpPr/>
            <p:nvPr/>
          </p:nvSpPr>
          <p:spPr>
            <a:xfrm flipV="1">
              <a:off x="4422960" y="4005000"/>
              <a:ext cx="360360" cy="936360"/>
            </a:xfrm>
            <a:prstGeom prst="line">
              <a:avLst/>
            </a:prstGeom>
            <a:ln cap="sq"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3"/>
            <p:cNvSpPr/>
            <p:nvPr/>
          </p:nvSpPr>
          <p:spPr>
            <a:xfrm flipH="1" flipV="1">
              <a:off x="4782960" y="4005000"/>
              <a:ext cx="360360" cy="936360"/>
            </a:xfrm>
            <a:prstGeom prst="line">
              <a:avLst/>
            </a:prstGeom>
            <a:ln cap="sq"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4"/>
            <p:cNvSpPr/>
            <p:nvPr/>
          </p:nvSpPr>
          <p:spPr>
            <a:xfrm flipV="1">
              <a:off x="6438960" y="4005000"/>
              <a:ext cx="360360" cy="936360"/>
            </a:xfrm>
            <a:prstGeom prst="line">
              <a:avLst/>
            </a:prstGeom>
            <a:ln cap="sq"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5"/>
            <p:cNvSpPr/>
            <p:nvPr/>
          </p:nvSpPr>
          <p:spPr>
            <a:xfrm flipH="1" flipV="1">
              <a:off x="6798960" y="4005000"/>
              <a:ext cx="360360" cy="936360"/>
            </a:xfrm>
            <a:prstGeom prst="line">
              <a:avLst/>
            </a:prstGeom>
            <a:ln cap="sq"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36"/>
            <p:cNvSpPr/>
            <p:nvPr/>
          </p:nvSpPr>
          <p:spPr>
            <a:xfrm>
              <a:off x="2550960" y="5661000"/>
              <a:ext cx="452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cc00cc"/>
                  </a:solidFill>
                  <a:latin typeface="Arial"/>
                </a:rPr>
                <a:t>Actual force during collis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7"/>
            <p:cNvSpPr/>
            <p:nvPr/>
          </p:nvSpPr>
          <p:spPr>
            <a:xfrm rot="6234000">
              <a:off x="2759760" y="5018400"/>
              <a:ext cx="516240" cy="648000"/>
            </a:xfrm>
            <a:custGeom>
              <a:avLst/>
              <a:gdLst>
                <a:gd name="textAreaLeft" fmla="*/ 0 w 516240"/>
                <a:gd name="textAreaRight" fmla="*/ 516600 w 51624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325" h="408">
                  <a:moveTo>
                    <a:pt x="318" y="0"/>
                  </a:moveTo>
                  <a:cubicBezTo>
                    <a:pt x="321" y="79"/>
                    <a:pt x="325" y="158"/>
                    <a:pt x="272" y="226"/>
                  </a:cubicBezTo>
                  <a:cubicBezTo>
                    <a:pt x="219" y="294"/>
                    <a:pt x="109" y="351"/>
                    <a:pt x="0" y="408"/>
                  </a:cubicBezTo>
                </a:path>
              </a:pathLst>
            </a:custGeom>
            <a:noFill/>
            <a:ln cap="sq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2"/>
          <p:cNvSpPr/>
          <p:nvPr/>
        </p:nvSpPr>
        <p:spPr>
          <a:xfrm>
            <a:off x="3059280" y="1127160"/>
            <a:ext cx="0" cy="2448000"/>
          </a:xfrm>
          <a:prstGeom prst="line">
            <a:avLst/>
          </a:prstGeom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"/>
          <p:cNvSpPr/>
          <p:nvPr/>
        </p:nvSpPr>
        <p:spPr>
          <a:xfrm flipH="1">
            <a:off x="3059280" y="3575160"/>
            <a:ext cx="3527280" cy="0"/>
          </a:xfrm>
          <a:prstGeom prst="line">
            <a:avLst/>
          </a:prstGeom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"/>
          <p:cNvSpPr/>
          <p:nvPr/>
        </p:nvSpPr>
        <p:spPr>
          <a:xfrm flipH="1">
            <a:off x="2268000" y="3573360"/>
            <a:ext cx="790920" cy="790560"/>
          </a:xfrm>
          <a:prstGeom prst="line">
            <a:avLst/>
          </a:prstGeom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3652200" y="4587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487560" y="3809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52600" y="1996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8"/>
          <p:cNvSpPr/>
          <p:nvPr/>
        </p:nvSpPr>
        <p:spPr>
          <a:xfrm>
            <a:off x="6791400" y="1143000"/>
            <a:ext cx="0" cy="2438280"/>
          </a:xfrm>
          <a:prstGeom prst="line">
            <a:avLst/>
          </a:prstGeom>
          <a:ln w="38160">
            <a:solidFill>
              <a:srgbClr val="bbe0e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6028920" y="3657600"/>
            <a:ext cx="76212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0"/>
          <p:cNvSpPr/>
          <p:nvPr/>
        </p:nvSpPr>
        <p:spPr>
          <a:xfrm>
            <a:off x="2219400" y="4572000"/>
            <a:ext cx="3581280" cy="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1"/>
          <p:cNvSpPr/>
          <p:nvPr/>
        </p:nvSpPr>
        <p:spPr>
          <a:xfrm>
            <a:off x="2219400" y="1143000"/>
            <a:ext cx="4419360" cy="327672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2"/>
          <p:cNvSpPr/>
          <p:nvPr/>
        </p:nvSpPr>
        <p:spPr>
          <a:xfrm>
            <a:off x="389556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3"/>
          <p:cNvSpPr/>
          <p:nvPr/>
        </p:nvSpPr>
        <p:spPr>
          <a:xfrm>
            <a:off x="4114800" y="29336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3971880" y="22860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592920" y="3207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der more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6"/>
          <p:cNvSpPr/>
          <p:nvPr/>
        </p:nvSpPr>
        <p:spPr>
          <a:xfrm>
            <a:off x="4886280" y="38862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7"/>
          <p:cNvSpPr/>
          <p:nvPr/>
        </p:nvSpPr>
        <p:spPr>
          <a:xfrm>
            <a:off x="5114880" y="4000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4962240" y="335268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9"/>
          <p:cNvSpPr/>
          <p:nvPr/>
        </p:nvSpPr>
        <p:spPr>
          <a:xfrm>
            <a:off x="2523960" y="2590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752560" y="27050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2600280" y="20574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22"/>
          <p:cNvSpPr/>
          <p:nvPr/>
        </p:nvSpPr>
        <p:spPr>
          <a:xfrm>
            <a:off x="4962600" y="2590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3"/>
          <p:cNvSpPr/>
          <p:nvPr/>
        </p:nvSpPr>
        <p:spPr>
          <a:xfrm>
            <a:off x="5191200" y="2705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4"/>
          <p:cNvSpPr/>
          <p:nvPr/>
        </p:nvSpPr>
        <p:spPr>
          <a:xfrm>
            <a:off x="5038560" y="20574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25"/>
          <p:cNvSpPr/>
          <p:nvPr/>
        </p:nvSpPr>
        <p:spPr>
          <a:xfrm>
            <a:off x="4199040" y="339084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6"/>
          <p:cNvSpPr/>
          <p:nvPr/>
        </p:nvSpPr>
        <p:spPr>
          <a:xfrm>
            <a:off x="44276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7"/>
          <p:cNvSpPr/>
          <p:nvPr/>
        </p:nvSpPr>
        <p:spPr>
          <a:xfrm>
            <a:off x="4278240" y="2857680"/>
            <a:ext cx="55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28"/>
          <p:cNvGrpSpPr/>
          <p:nvPr/>
        </p:nvGrpSpPr>
        <p:grpSpPr>
          <a:xfrm>
            <a:off x="3276360" y="2361960"/>
            <a:ext cx="533160" cy="228600"/>
            <a:chOff x="3276360" y="2361960"/>
            <a:chExt cx="533160" cy="228600"/>
          </a:xfrm>
        </p:grpSpPr>
        <p:sp>
          <p:nvSpPr>
            <p:cNvPr id="342" name="Oval 29"/>
            <p:cNvSpPr/>
            <p:nvPr/>
          </p:nvSpPr>
          <p:spPr>
            <a:xfrm flipH="1" flipV="1">
              <a:off x="3580560" y="236160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30"/>
            <p:cNvSpPr/>
            <p:nvPr/>
          </p:nvSpPr>
          <p:spPr>
            <a:xfrm flipH="1">
              <a:off x="3276360" y="24760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31"/>
          <p:cNvSpPr/>
          <p:nvPr/>
        </p:nvSpPr>
        <p:spPr>
          <a:xfrm>
            <a:off x="3133080" y="1828800"/>
            <a:ext cx="65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32"/>
          <p:cNvGrpSpPr/>
          <p:nvPr/>
        </p:nvGrpSpPr>
        <p:grpSpPr>
          <a:xfrm>
            <a:off x="3733560" y="4038120"/>
            <a:ext cx="533160" cy="228600"/>
            <a:chOff x="3733560" y="4038120"/>
            <a:chExt cx="533160" cy="228600"/>
          </a:xfrm>
        </p:grpSpPr>
        <p:sp>
          <p:nvSpPr>
            <p:cNvPr id="346" name="Oval 33"/>
            <p:cNvSpPr/>
            <p:nvPr/>
          </p:nvSpPr>
          <p:spPr>
            <a:xfrm flipH="1" flipV="1">
              <a:off x="4037760" y="40377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34"/>
            <p:cNvSpPr/>
            <p:nvPr/>
          </p:nvSpPr>
          <p:spPr>
            <a:xfrm flipH="1">
              <a:off x="3733560" y="4152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 Box 35"/>
          <p:cNvSpPr/>
          <p:nvPr/>
        </p:nvSpPr>
        <p:spPr>
          <a:xfrm>
            <a:off x="3590280" y="3505320"/>
            <a:ext cx="65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441360" y="5349960"/>
            <a:ext cx="847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molecules travelling at slightly different velocities so v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ries - take mean -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GB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6948360" y="595008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38"/>
          <p:cNvSpPr/>
          <p:nvPr/>
        </p:nvSpPr>
        <p:spPr>
          <a:xfrm>
            <a:off x="2752560" y="3733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9"/>
          <p:cNvSpPr/>
          <p:nvPr/>
        </p:nvSpPr>
        <p:spPr>
          <a:xfrm>
            <a:off x="2981160" y="38480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828880" y="32004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41"/>
          <p:cNvGrpSpPr/>
          <p:nvPr/>
        </p:nvGrpSpPr>
        <p:grpSpPr>
          <a:xfrm>
            <a:off x="3047760" y="3200040"/>
            <a:ext cx="533160" cy="228600"/>
            <a:chOff x="3047760" y="3200040"/>
            <a:chExt cx="533160" cy="228600"/>
          </a:xfrm>
        </p:grpSpPr>
        <p:sp>
          <p:nvSpPr>
            <p:cNvPr id="355" name="Oval 42"/>
            <p:cNvSpPr/>
            <p:nvPr/>
          </p:nvSpPr>
          <p:spPr>
            <a:xfrm flipH="1" flipV="1">
              <a:off x="3351960" y="319968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43"/>
            <p:cNvSpPr/>
            <p:nvPr/>
          </p:nvSpPr>
          <p:spPr>
            <a:xfrm flipH="1">
              <a:off x="3047760" y="33141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44"/>
          <p:cNvSpPr/>
          <p:nvPr/>
        </p:nvSpPr>
        <p:spPr>
          <a:xfrm>
            <a:off x="2904480" y="2666880"/>
            <a:ext cx="65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592560" y="2911320"/>
            <a:ext cx="3310920" cy="1175400"/>
            <a:chOff x="592560" y="2911320"/>
            <a:chExt cx="3310920" cy="1175400"/>
          </a:xfrm>
        </p:grpSpPr>
        <p:sp>
          <p:nvSpPr>
            <p:cNvPr id="359" name="Text Box 3"/>
            <p:cNvSpPr/>
            <p:nvPr/>
          </p:nvSpPr>
          <p:spPr>
            <a:xfrm>
              <a:off x="592560" y="2911320"/>
              <a:ext cx="331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Pressure = For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4"/>
            <p:cNvSpPr/>
            <p:nvPr/>
          </p:nvSpPr>
          <p:spPr>
            <a:xfrm>
              <a:off x="2744640" y="3505320"/>
              <a:ext cx="103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A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5"/>
            <p:cNvSpPr/>
            <p:nvPr/>
          </p:nvSpPr>
          <p:spPr>
            <a:xfrm>
              <a:off x="2743200" y="350532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6"/>
          <p:cNvSpPr/>
          <p:nvPr/>
        </p:nvSpPr>
        <p:spPr>
          <a:xfrm>
            <a:off x="301680" y="457200"/>
            <a:ext cx="87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ce created by N molecules hitting the box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7"/>
          <p:cNvGrpSpPr/>
          <p:nvPr/>
        </p:nvGrpSpPr>
        <p:grpSpPr>
          <a:xfrm>
            <a:off x="3045600" y="1338120"/>
            <a:ext cx="2306880" cy="1361880"/>
            <a:chOff x="3045600" y="1338120"/>
            <a:chExt cx="2306880" cy="1361880"/>
          </a:xfrm>
        </p:grpSpPr>
        <p:grpSp>
          <p:nvGrpSpPr>
            <p:cNvPr id="364" name="Group 8"/>
            <p:cNvGrpSpPr/>
            <p:nvPr/>
          </p:nvGrpSpPr>
          <p:grpSpPr>
            <a:xfrm>
              <a:off x="3045600" y="1338120"/>
              <a:ext cx="2306880" cy="1361880"/>
              <a:chOff x="3045600" y="1338120"/>
              <a:chExt cx="2306880" cy="1361880"/>
            </a:xfrm>
          </p:grpSpPr>
          <p:sp>
            <p:nvSpPr>
              <p:cNvPr id="365" name="Text Box 9"/>
              <p:cNvSpPr/>
              <p:nvPr/>
            </p:nvSpPr>
            <p:spPr>
              <a:xfrm>
                <a:off x="3045600" y="1338120"/>
                <a:ext cx="2306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ff0000"/>
                    </a:solidFill>
                    <a:latin typeface="Arial"/>
                  </a:rPr>
                  <a:t>F =  Nmv</a:t>
                </a:r>
                <a:r>
                  <a:rPr b="0" lang="en-GB" sz="3600" spc="-1" strike="noStrike" baseline="30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0" lang="en-GB" sz="32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0"/>
              <p:cNvSpPr/>
              <p:nvPr/>
            </p:nvSpPr>
            <p:spPr>
              <a:xfrm>
                <a:off x="4345200" y="20574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600" spc="-1" strike="noStrike">
                    <a:solidFill>
                      <a:srgbClr val="ff0000"/>
                    </a:solidFill>
                    <a:latin typeface="Arial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11"/>
              <p:cNvSpPr/>
              <p:nvPr/>
            </p:nvSpPr>
            <p:spPr>
              <a:xfrm>
                <a:off x="3962520" y="198108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Line 12"/>
            <p:cNvSpPr/>
            <p:nvPr/>
          </p:nvSpPr>
          <p:spPr>
            <a:xfrm>
              <a:off x="4724280" y="1413000"/>
              <a:ext cx="381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3"/>
          <p:cNvGrpSpPr/>
          <p:nvPr/>
        </p:nvGrpSpPr>
        <p:grpSpPr>
          <a:xfrm>
            <a:off x="4116240" y="2895480"/>
            <a:ext cx="1941840" cy="1328400"/>
            <a:chOff x="4116240" y="2895480"/>
            <a:chExt cx="1941840" cy="1328400"/>
          </a:xfrm>
        </p:grpSpPr>
        <p:sp>
          <p:nvSpPr>
            <p:cNvPr id="370" name="Text Box 14"/>
            <p:cNvSpPr/>
            <p:nvPr/>
          </p:nvSpPr>
          <p:spPr>
            <a:xfrm>
              <a:off x="4116240" y="2938320"/>
              <a:ext cx="56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5"/>
            <p:cNvSpPr/>
            <p:nvPr/>
          </p:nvSpPr>
          <p:spPr>
            <a:xfrm>
              <a:off x="4676400" y="2895480"/>
              <a:ext cx="13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Nmv</a:t>
              </a:r>
              <a:r>
                <a:rPr b="0" lang="en-GB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6"/>
            <p:cNvSpPr/>
            <p:nvPr/>
          </p:nvSpPr>
          <p:spPr>
            <a:xfrm>
              <a:off x="4741920" y="358128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xyz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7"/>
            <p:cNvSpPr/>
            <p:nvPr/>
          </p:nvSpPr>
          <p:spPr>
            <a:xfrm>
              <a:off x="4680000" y="353844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8"/>
            <p:cNvSpPr/>
            <p:nvPr/>
          </p:nvSpPr>
          <p:spPr>
            <a:xfrm>
              <a:off x="5442120" y="299736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6249960" y="2895480"/>
            <a:ext cx="1941480" cy="1328400"/>
            <a:chOff x="6249960" y="2895480"/>
            <a:chExt cx="1941480" cy="1328400"/>
          </a:xfrm>
        </p:grpSpPr>
        <p:sp>
          <p:nvSpPr>
            <p:cNvPr id="376" name="Text Box 20"/>
            <p:cNvSpPr/>
            <p:nvPr/>
          </p:nvSpPr>
          <p:spPr>
            <a:xfrm>
              <a:off x="6249960" y="2938320"/>
              <a:ext cx="56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21"/>
            <p:cNvSpPr/>
            <p:nvPr/>
          </p:nvSpPr>
          <p:spPr>
            <a:xfrm>
              <a:off x="6809760" y="2895480"/>
              <a:ext cx="13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Nmv</a:t>
              </a:r>
              <a:r>
                <a:rPr b="0" lang="en-GB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2"/>
            <p:cNvSpPr/>
            <p:nvPr/>
          </p:nvSpPr>
          <p:spPr>
            <a:xfrm>
              <a:off x="7164360" y="358128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23"/>
            <p:cNvSpPr/>
            <p:nvPr/>
          </p:nvSpPr>
          <p:spPr>
            <a:xfrm>
              <a:off x="6813720" y="353844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24"/>
            <p:cNvSpPr/>
            <p:nvPr/>
          </p:nvSpPr>
          <p:spPr>
            <a:xfrm>
              <a:off x="7575480" y="2997360"/>
              <a:ext cx="381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25"/>
          <p:cNvSpPr/>
          <p:nvPr/>
        </p:nvSpPr>
        <p:spPr>
          <a:xfrm>
            <a:off x="304920" y="4419720"/>
            <a:ext cx="50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, molecules move in 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26"/>
          <p:cNvGrpSpPr/>
          <p:nvPr/>
        </p:nvGrpSpPr>
        <p:grpSpPr>
          <a:xfrm>
            <a:off x="2819520" y="5181480"/>
            <a:ext cx="3124080" cy="1371600"/>
            <a:chOff x="2819520" y="5181480"/>
            <a:chExt cx="3124080" cy="1371600"/>
          </a:xfrm>
        </p:grpSpPr>
        <p:sp>
          <p:nvSpPr>
            <p:cNvPr id="383" name="Text Box 27"/>
            <p:cNvSpPr/>
            <p:nvPr/>
          </p:nvSpPr>
          <p:spPr>
            <a:xfrm>
              <a:off x="2973600" y="5442120"/>
              <a:ext cx="89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8"/>
            <p:cNvSpPr/>
            <p:nvPr/>
          </p:nvSpPr>
          <p:spPr>
            <a:xfrm>
              <a:off x="4355640" y="5257800"/>
              <a:ext cx="13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Nmv</a:t>
              </a:r>
              <a:r>
                <a:rPr b="0" lang="en-GB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9"/>
            <p:cNvSpPr/>
            <p:nvPr/>
          </p:nvSpPr>
          <p:spPr>
            <a:xfrm>
              <a:off x="4709880" y="58831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0"/>
            <p:cNvSpPr/>
            <p:nvPr/>
          </p:nvSpPr>
          <p:spPr>
            <a:xfrm>
              <a:off x="4359240" y="5862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31"/>
            <p:cNvSpPr/>
            <p:nvPr/>
          </p:nvSpPr>
          <p:spPr>
            <a:xfrm>
              <a:off x="5121360" y="530064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2"/>
            <p:cNvSpPr/>
            <p:nvPr/>
          </p:nvSpPr>
          <p:spPr>
            <a:xfrm>
              <a:off x="3871800" y="52894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33"/>
            <p:cNvSpPr/>
            <p:nvPr/>
          </p:nvSpPr>
          <p:spPr>
            <a:xfrm>
              <a:off x="3887640" y="5913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34"/>
            <p:cNvSpPr/>
            <p:nvPr/>
          </p:nvSpPr>
          <p:spPr>
            <a:xfrm>
              <a:off x="3886200" y="58611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>
              <a:off x="2819520" y="5181480"/>
              <a:ext cx="3124080" cy="1371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257800" y="1600200"/>
            <a:ext cx="3521160" cy="947160"/>
            <a:chOff x="5257800" y="1600200"/>
            <a:chExt cx="3521160" cy="947160"/>
          </a:xfrm>
        </p:grpSpPr>
        <p:sp>
          <p:nvSpPr>
            <p:cNvPr id="393" name="Line 37"/>
            <p:cNvSpPr/>
            <p:nvPr/>
          </p:nvSpPr>
          <p:spPr>
            <a:xfrm flipH="1" flipV="1">
              <a:off x="5257800" y="1676160"/>
              <a:ext cx="990720" cy="152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38"/>
            <p:cNvSpPr/>
            <p:nvPr/>
          </p:nvSpPr>
          <p:spPr>
            <a:xfrm>
              <a:off x="6324480" y="1600200"/>
              <a:ext cx="2454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99"/>
                  </a:solidFill>
                  <a:latin typeface="Arial"/>
                </a:rPr>
                <a:t>Mean square veloc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 Box 39"/>
          <p:cNvSpPr/>
          <p:nvPr/>
        </p:nvSpPr>
        <p:spPr>
          <a:xfrm>
            <a:off x="6084720" y="530064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cc"/>
                </a:solidFill>
                <a:latin typeface="Arial"/>
              </a:rPr>
              <a:t>Kinetic Theory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2952360" y="380880"/>
            <a:ext cx="32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rownian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862920" y="1235160"/>
            <a:ext cx="73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oes it support the Kinetic The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365040" y="1981080"/>
            <a:ext cx="839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nfirms pressure of a gas is the result of randomly moving molecules bombarding container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365040" y="3733920"/>
            <a:ext cx="82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ate of movement of molecules increases with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363240" y="5045040"/>
            <a:ext cx="77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nfirms a range of speeds of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365760" y="5807160"/>
            <a:ext cx="79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ontinual motion - justifies elastic coll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1063440" y="277920"/>
            <a:ext cx="23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crosc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5590440" y="27792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crosc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4"/>
          <p:cNvGrpSpPr/>
          <p:nvPr/>
        </p:nvGrpSpPr>
        <p:grpSpPr>
          <a:xfrm>
            <a:off x="459720" y="2492280"/>
            <a:ext cx="3126960" cy="1322640"/>
            <a:chOff x="459720" y="2492280"/>
            <a:chExt cx="3126960" cy="1322640"/>
          </a:xfrm>
        </p:grpSpPr>
        <p:sp>
          <p:nvSpPr>
            <p:cNvPr id="405" name="Text Box 5"/>
            <p:cNvSpPr/>
            <p:nvPr/>
          </p:nvSpPr>
          <p:spPr>
            <a:xfrm>
              <a:off x="459720" y="2657520"/>
              <a:ext cx="1320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pV</a:t>
              </a: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6"/>
            <p:cNvSpPr/>
            <p:nvPr/>
          </p:nvSpPr>
          <p:spPr>
            <a:xfrm>
              <a:off x="2073960" y="2505240"/>
              <a:ext cx="151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Nmv</a:t>
              </a:r>
              <a:r>
                <a:rPr b="0" lang="en-GB" sz="4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>
              <a:off x="2916360" y="256536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8"/>
            <p:cNvSpPr/>
            <p:nvPr/>
          </p:nvSpPr>
          <p:spPr>
            <a:xfrm>
              <a:off x="1611720" y="2492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9"/>
            <p:cNvSpPr/>
            <p:nvPr/>
          </p:nvSpPr>
          <p:spPr>
            <a:xfrm>
              <a:off x="1611720" y="31114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0"/>
            <p:cNvSpPr/>
            <p:nvPr/>
          </p:nvSpPr>
          <p:spPr>
            <a:xfrm>
              <a:off x="1652760" y="31417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11"/>
          <p:cNvGrpSpPr/>
          <p:nvPr/>
        </p:nvGrpSpPr>
        <p:grpSpPr>
          <a:xfrm>
            <a:off x="5488200" y="2505240"/>
            <a:ext cx="2538720" cy="703440"/>
            <a:chOff x="5488200" y="2505240"/>
            <a:chExt cx="2538720" cy="703440"/>
          </a:xfrm>
        </p:grpSpPr>
        <p:sp>
          <p:nvSpPr>
            <p:cNvPr id="412" name="Text Box 12"/>
            <p:cNvSpPr/>
            <p:nvPr/>
          </p:nvSpPr>
          <p:spPr>
            <a:xfrm>
              <a:off x="5488200" y="250524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p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3"/>
            <p:cNvSpPr/>
            <p:nvPr/>
          </p:nvSpPr>
          <p:spPr>
            <a:xfrm>
              <a:off x="6479280" y="2505240"/>
              <a:ext cx="15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= Nk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Line 14"/>
          <p:cNvSpPr/>
          <p:nvPr/>
        </p:nvSpPr>
        <p:spPr>
          <a:xfrm>
            <a:off x="4427640" y="549360"/>
            <a:ext cx="0" cy="3889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5"/>
          <p:cNvSpPr/>
          <p:nvPr/>
        </p:nvSpPr>
        <p:spPr>
          <a:xfrm>
            <a:off x="325440" y="876240"/>
            <a:ext cx="38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n terms of molecu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6"/>
          <p:cNvSpPr/>
          <p:nvPr/>
        </p:nvSpPr>
        <p:spPr>
          <a:xfrm>
            <a:off x="5003640" y="907920"/>
            <a:ext cx="36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n terms of physical observ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17"/>
          <p:cNvGrpSpPr/>
          <p:nvPr/>
        </p:nvGrpSpPr>
        <p:grpSpPr>
          <a:xfrm>
            <a:off x="2053080" y="4554360"/>
            <a:ext cx="4230720" cy="1308600"/>
            <a:chOff x="2053080" y="4554360"/>
            <a:chExt cx="4230720" cy="1308600"/>
          </a:xfrm>
        </p:grpSpPr>
        <p:sp>
          <p:nvSpPr>
            <p:cNvPr id="418" name="Text Box 18"/>
            <p:cNvSpPr/>
            <p:nvPr/>
          </p:nvSpPr>
          <p:spPr>
            <a:xfrm>
              <a:off x="4069080" y="4554360"/>
              <a:ext cx="64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9"/>
            <p:cNvSpPr/>
            <p:nvPr/>
          </p:nvSpPr>
          <p:spPr>
            <a:xfrm>
              <a:off x="2536560" y="4554360"/>
              <a:ext cx="1653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Nmv</a:t>
              </a:r>
              <a:r>
                <a:rPr b="0" lang="en-GB" sz="44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0"/>
            <p:cNvSpPr/>
            <p:nvPr/>
          </p:nvSpPr>
          <p:spPr>
            <a:xfrm>
              <a:off x="3419640" y="4653000"/>
              <a:ext cx="504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1"/>
            <p:cNvSpPr/>
            <p:nvPr/>
          </p:nvSpPr>
          <p:spPr>
            <a:xfrm>
              <a:off x="2053080" y="45864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2"/>
            <p:cNvSpPr/>
            <p:nvPr/>
          </p:nvSpPr>
          <p:spPr>
            <a:xfrm>
              <a:off x="2068920" y="51595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3"/>
            <p:cNvSpPr/>
            <p:nvPr/>
          </p:nvSpPr>
          <p:spPr>
            <a:xfrm>
              <a:off x="2066760" y="520524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4"/>
            <p:cNvSpPr/>
            <p:nvPr/>
          </p:nvSpPr>
          <p:spPr>
            <a:xfrm>
              <a:off x="5077440" y="4576680"/>
              <a:ext cx="120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Nk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379800" y="2362320"/>
            <a:ext cx="8127000" cy="1339920"/>
            <a:chOff x="379800" y="2362320"/>
            <a:chExt cx="8127000" cy="1339920"/>
          </a:xfrm>
        </p:grpSpPr>
        <p:sp>
          <p:nvSpPr>
            <p:cNvPr id="426" name="Text Box 3"/>
            <p:cNvSpPr/>
            <p:nvPr/>
          </p:nvSpPr>
          <p:spPr>
            <a:xfrm>
              <a:off x="379800" y="2362320"/>
              <a:ext cx="812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Already commented that looks a bit like K.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4"/>
            <p:cNvSpPr/>
            <p:nvPr/>
          </p:nvSpPr>
          <p:spPr>
            <a:xfrm>
              <a:off x="2908080" y="2998800"/>
              <a:ext cx="2983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K.E. = ½mv</a:t>
              </a:r>
              <a:r>
                <a:rPr b="0" lang="en-GB" sz="4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5"/>
            <p:cNvSpPr/>
            <p:nvPr/>
          </p:nvSpPr>
          <p:spPr>
            <a:xfrm>
              <a:off x="5292720" y="3068640"/>
              <a:ext cx="523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 Box 6"/>
          <p:cNvSpPr/>
          <p:nvPr/>
        </p:nvSpPr>
        <p:spPr>
          <a:xfrm>
            <a:off x="363240" y="396720"/>
            <a:ext cx="50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rrange (and remove 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441720" y="4206960"/>
            <a:ext cx="33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titute into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8"/>
          <p:cNvGrpSpPr/>
          <p:nvPr/>
        </p:nvGrpSpPr>
        <p:grpSpPr>
          <a:xfrm>
            <a:off x="2964960" y="1320840"/>
            <a:ext cx="3368520" cy="704880"/>
            <a:chOff x="2964960" y="1320840"/>
            <a:chExt cx="3368520" cy="704880"/>
          </a:xfrm>
        </p:grpSpPr>
        <p:sp>
          <p:nvSpPr>
            <p:cNvPr id="432" name="Text Box 9"/>
            <p:cNvSpPr/>
            <p:nvPr/>
          </p:nvSpPr>
          <p:spPr>
            <a:xfrm>
              <a:off x="3958200" y="1322280"/>
              <a:ext cx="1464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0" lang="en-GB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3k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10"/>
            <p:cNvSpPr/>
            <p:nvPr/>
          </p:nvSpPr>
          <p:spPr>
            <a:xfrm>
              <a:off x="2964960" y="1320840"/>
              <a:ext cx="1162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mv</a:t>
              </a:r>
              <a:r>
                <a:rPr b="0" lang="en-GB" sz="4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1"/>
            <p:cNvSpPr/>
            <p:nvPr/>
          </p:nvSpPr>
          <p:spPr>
            <a:xfrm>
              <a:off x="3330720" y="144612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12"/>
            <p:cNvSpPr/>
            <p:nvPr/>
          </p:nvSpPr>
          <p:spPr>
            <a:xfrm>
              <a:off x="5716800" y="1447920"/>
              <a:ext cx="61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13"/>
          <p:cNvGrpSpPr/>
          <p:nvPr/>
        </p:nvGrpSpPr>
        <p:grpSpPr>
          <a:xfrm>
            <a:off x="2917440" y="4603680"/>
            <a:ext cx="2716560" cy="1270080"/>
            <a:chOff x="2917440" y="4603680"/>
            <a:chExt cx="2716560" cy="1270080"/>
          </a:xfrm>
        </p:grpSpPr>
        <p:sp>
          <p:nvSpPr>
            <p:cNvPr id="437" name="Text Box 14"/>
            <p:cNvSpPr/>
            <p:nvPr/>
          </p:nvSpPr>
          <p:spPr>
            <a:xfrm>
              <a:off x="2917440" y="4680000"/>
              <a:ext cx="172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K.E.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5"/>
            <p:cNvSpPr/>
            <p:nvPr/>
          </p:nvSpPr>
          <p:spPr>
            <a:xfrm>
              <a:off x="4516920" y="46036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6"/>
            <p:cNvSpPr/>
            <p:nvPr/>
          </p:nvSpPr>
          <p:spPr>
            <a:xfrm>
              <a:off x="4524840" y="5170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7"/>
            <p:cNvSpPr/>
            <p:nvPr/>
          </p:nvSpPr>
          <p:spPr>
            <a:xfrm>
              <a:off x="4522680" y="521964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18"/>
            <p:cNvSpPr/>
            <p:nvPr/>
          </p:nvSpPr>
          <p:spPr>
            <a:xfrm>
              <a:off x="4889520" y="468000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k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19"/>
          <p:cNvGrpSpPr/>
          <p:nvPr/>
        </p:nvGrpSpPr>
        <p:grpSpPr>
          <a:xfrm>
            <a:off x="5257800" y="5291280"/>
            <a:ext cx="3657600" cy="1068840"/>
            <a:chOff x="5257800" y="5291280"/>
            <a:chExt cx="3657600" cy="1068840"/>
          </a:xfrm>
        </p:grpSpPr>
        <p:sp>
          <p:nvSpPr>
            <p:cNvPr id="443" name="Text Box 20"/>
            <p:cNvSpPr/>
            <p:nvPr/>
          </p:nvSpPr>
          <p:spPr>
            <a:xfrm>
              <a:off x="5653080" y="5291280"/>
              <a:ext cx="3262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Average K.E. of </a:t>
              </a:r>
              <a:r>
                <a:rPr b="0" lang="en-GB" sz="3200" spc="-1" strike="noStrike" u="sng">
                  <a:solidFill>
                    <a:srgbClr val="333399"/>
                  </a:solidFill>
                  <a:uFillTx/>
                  <a:latin typeface="Arial"/>
                </a:rPr>
                <a:t>one</a:t>
              </a: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21"/>
            <p:cNvSpPr/>
            <p:nvPr/>
          </p:nvSpPr>
          <p:spPr>
            <a:xfrm flipH="1" flipV="1">
              <a:off x="5257800" y="5367240"/>
              <a:ext cx="665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668880" y="473040"/>
            <a:ext cx="66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tal K.E. of gas (with N molecu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3"/>
          <p:cNvGrpSpPr/>
          <p:nvPr/>
        </p:nvGrpSpPr>
        <p:grpSpPr>
          <a:xfrm>
            <a:off x="2605680" y="1295280"/>
            <a:ext cx="3488400" cy="1209600"/>
            <a:chOff x="2605680" y="1295280"/>
            <a:chExt cx="3488400" cy="1209600"/>
          </a:xfrm>
        </p:grpSpPr>
        <p:sp>
          <p:nvSpPr>
            <p:cNvPr id="447" name="Text Box 4"/>
            <p:cNvSpPr/>
            <p:nvPr/>
          </p:nvSpPr>
          <p:spPr>
            <a:xfrm>
              <a:off x="2605680" y="1371600"/>
              <a:ext cx="2152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K.E.</a:t>
              </a:r>
              <a:r>
                <a:rPr b="0" lang="en-GB" sz="3600" spc="-1" strike="noStrike" baseline="-25000">
                  <a:solidFill>
                    <a:srgbClr val="ff0000"/>
                  </a:solidFill>
                  <a:latin typeface="Arial"/>
                </a:rPr>
                <a:t>Total</a:t>
              </a: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 =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5"/>
            <p:cNvSpPr/>
            <p:nvPr/>
          </p:nvSpPr>
          <p:spPr>
            <a:xfrm>
              <a:off x="4701960" y="12952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"/>
            <p:cNvSpPr/>
            <p:nvPr/>
          </p:nvSpPr>
          <p:spPr>
            <a:xfrm>
              <a:off x="4709880" y="18622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7"/>
            <p:cNvSpPr/>
            <p:nvPr/>
          </p:nvSpPr>
          <p:spPr>
            <a:xfrm>
              <a:off x="4708440" y="18622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8"/>
            <p:cNvSpPr/>
            <p:nvPr/>
          </p:nvSpPr>
          <p:spPr>
            <a:xfrm>
              <a:off x="5075280" y="1371600"/>
              <a:ext cx="101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Nk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Text Box 9"/>
          <p:cNvSpPr/>
          <p:nvPr/>
        </p:nvSpPr>
        <p:spPr>
          <a:xfrm>
            <a:off x="304920" y="26668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translational energ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3276720" y="3429000"/>
            <a:ext cx="532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not rotational, or vibr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1"/>
          <p:cNvSpPr/>
          <p:nvPr/>
        </p:nvSpPr>
        <p:spPr>
          <a:xfrm>
            <a:off x="302400" y="434340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generally referred to as internal energy,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2"/>
          <p:cNvGrpSpPr/>
          <p:nvPr/>
        </p:nvGrpSpPr>
        <p:grpSpPr>
          <a:xfrm>
            <a:off x="3048120" y="5132520"/>
            <a:ext cx="2604240" cy="1270080"/>
            <a:chOff x="3048120" y="5132520"/>
            <a:chExt cx="2604240" cy="1270080"/>
          </a:xfrm>
        </p:grpSpPr>
        <p:sp>
          <p:nvSpPr>
            <p:cNvPr id="456" name="Text Box 13"/>
            <p:cNvSpPr/>
            <p:nvPr/>
          </p:nvSpPr>
          <p:spPr>
            <a:xfrm>
              <a:off x="3048120" y="5334120"/>
              <a:ext cx="116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U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4"/>
            <p:cNvSpPr/>
            <p:nvPr/>
          </p:nvSpPr>
          <p:spPr>
            <a:xfrm>
              <a:off x="4169160" y="51325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5"/>
            <p:cNvSpPr/>
            <p:nvPr/>
          </p:nvSpPr>
          <p:spPr>
            <a:xfrm>
              <a:off x="4177080" y="569916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6"/>
            <p:cNvSpPr/>
            <p:nvPr/>
          </p:nvSpPr>
          <p:spPr>
            <a:xfrm>
              <a:off x="4175280" y="57484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7"/>
            <p:cNvSpPr/>
            <p:nvPr/>
          </p:nvSpPr>
          <p:spPr>
            <a:xfrm>
              <a:off x="4542120" y="5208480"/>
              <a:ext cx="111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Nk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5334120" y="849240"/>
            <a:ext cx="2468160" cy="1209600"/>
            <a:chOff x="5334120" y="849240"/>
            <a:chExt cx="2468160" cy="1209600"/>
          </a:xfrm>
        </p:grpSpPr>
        <p:sp>
          <p:nvSpPr>
            <p:cNvPr id="462" name="Text Box 3"/>
            <p:cNvSpPr/>
            <p:nvPr/>
          </p:nvSpPr>
          <p:spPr>
            <a:xfrm>
              <a:off x="5334120" y="1001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U =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4"/>
            <p:cNvSpPr/>
            <p:nvPr/>
          </p:nvSpPr>
          <p:spPr>
            <a:xfrm>
              <a:off x="6410160" y="8492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5"/>
            <p:cNvSpPr/>
            <p:nvPr/>
          </p:nvSpPr>
          <p:spPr>
            <a:xfrm>
              <a:off x="6418080" y="14162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6"/>
            <p:cNvSpPr/>
            <p:nvPr/>
          </p:nvSpPr>
          <p:spPr>
            <a:xfrm>
              <a:off x="6416640" y="14162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7"/>
            <p:cNvSpPr/>
            <p:nvPr/>
          </p:nvSpPr>
          <p:spPr>
            <a:xfrm>
              <a:off x="6783480" y="925560"/>
              <a:ext cx="101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00"/>
                  </a:solidFill>
                  <a:latin typeface="Arial"/>
                </a:rPr>
                <a:t>Nk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8"/>
          <p:cNvSpPr/>
          <p:nvPr/>
        </p:nvSpPr>
        <p:spPr>
          <a:xfrm>
            <a:off x="456840" y="1001880"/>
            <a:ext cx="44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l Energy of a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457920" y="1996920"/>
            <a:ext cx="593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 of the K.E. of all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457200" y="2971800"/>
            <a:ext cx="83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can the internal energy (K.E.) of a gas be increa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1829880" y="4267080"/>
            <a:ext cx="426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t it - K.E. </a:t>
            </a:r>
            <a:r>
              <a:rPr b="0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1828080" y="5105520"/>
            <a:ext cx="459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work on the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3"/>
          <p:cNvGrpSpPr/>
          <p:nvPr/>
        </p:nvGrpSpPr>
        <p:grpSpPr>
          <a:xfrm>
            <a:off x="4495680" y="5715000"/>
            <a:ext cx="4472280" cy="886320"/>
            <a:chOff x="4495680" y="5715000"/>
            <a:chExt cx="4472280" cy="886320"/>
          </a:xfrm>
        </p:grpSpPr>
        <p:sp>
          <p:nvSpPr>
            <p:cNvPr id="473" name="Text Box 14"/>
            <p:cNvSpPr/>
            <p:nvPr/>
          </p:nvSpPr>
          <p:spPr>
            <a:xfrm>
              <a:off x="4495680" y="6019920"/>
              <a:ext cx="447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900cc"/>
                  </a:solidFill>
                  <a:latin typeface="Arial"/>
                </a:rPr>
                <a:t>Physically hit molecul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15"/>
            <p:cNvSpPr/>
            <p:nvPr/>
          </p:nvSpPr>
          <p:spPr>
            <a:xfrm flipH="1" flipV="1">
              <a:off x="5715000" y="5715000"/>
              <a:ext cx="533520" cy="45720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Text Box 16"/>
          <p:cNvSpPr/>
          <p:nvPr/>
        </p:nvSpPr>
        <p:spPr>
          <a:xfrm>
            <a:off x="2626920" y="189000"/>
            <a:ext cx="34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Energy and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304920" y="91440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 in Internal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3657600" y="914400"/>
            <a:ext cx="245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don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6400800" y="914400"/>
            <a:ext cx="237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transferred therm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3202200" y="11430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5869080" y="11430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2638800" y="2743200"/>
            <a:ext cx="31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U = W +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1401120" y="3933720"/>
            <a:ext cx="60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Basically conservation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151200" y="4724280"/>
            <a:ext cx="89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Also known as the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First Law of Ther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303120" y="54936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t, Q – energy transferred between two areas because of a temperature diffe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250920" y="3573360"/>
            <a:ext cx="8589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, W – energy transferred by means that is independent of temper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.e. change in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2055600" y="1817640"/>
            <a:ext cx="487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+ve when energy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-ve when energy re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536040" y="5302080"/>
            <a:ext cx="791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+ve when work done on gas -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-ve when work done by gas - expa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GEengine-763893"/>
          <p:cNvPicPr/>
          <p:nvPr/>
        </p:nvPicPr>
        <p:blipFill>
          <a:blip r:embed="rId1"/>
          <a:stretch/>
        </p:blipFill>
        <p:spPr>
          <a:xfrm>
            <a:off x="1938240" y="752400"/>
            <a:ext cx="52675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einstein solid"/>
          <p:cNvPicPr/>
          <p:nvPr/>
        </p:nvPicPr>
        <p:blipFill>
          <a:blip r:embed="rId1"/>
          <a:stretch/>
        </p:blipFill>
        <p:spPr>
          <a:xfrm>
            <a:off x="3132000" y="439560"/>
            <a:ext cx="5653080" cy="565344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3"/>
          <p:cNvSpPr/>
          <p:nvPr/>
        </p:nvSpPr>
        <p:spPr>
          <a:xfrm>
            <a:off x="324720" y="33336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Einstein’s Model of a 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971640" y="1341360"/>
            <a:ext cx="2736720" cy="1556280"/>
            <a:chOff x="971640" y="1341360"/>
            <a:chExt cx="2736720" cy="1556280"/>
          </a:xfrm>
        </p:grpSpPr>
        <p:sp>
          <p:nvSpPr>
            <p:cNvPr id="491" name="Line 5"/>
            <p:cNvSpPr/>
            <p:nvPr/>
          </p:nvSpPr>
          <p:spPr>
            <a:xfrm>
              <a:off x="2627280" y="2276640"/>
              <a:ext cx="1081080" cy="288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6"/>
            <p:cNvSpPr/>
            <p:nvPr/>
          </p:nvSpPr>
          <p:spPr>
            <a:xfrm>
              <a:off x="971640" y="1341360"/>
              <a:ext cx="2252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Bonds between atom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Text Box 7"/>
          <p:cNvSpPr/>
          <p:nvPr/>
        </p:nvSpPr>
        <p:spPr>
          <a:xfrm>
            <a:off x="1187280" y="551664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om requires energy to break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3659400" y="6093000"/>
            <a:ext cx="14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9"/>
          <p:cNvGrpSpPr/>
          <p:nvPr/>
        </p:nvGrpSpPr>
        <p:grpSpPr>
          <a:xfrm>
            <a:off x="-360" y="3357720"/>
            <a:ext cx="3656880" cy="1068840"/>
            <a:chOff x="-360" y="3357720"/>
            <a:chExt cx="3656880" cy="1068840"/>
          </a:xfrm>
        </p:grpSpPr>
        <p:sp>
          <p:nvSpPr>
            <p:cNvPr id="496" name="Text Box 10"/>
            <p:cNvSpPr/>
            <p:nvPr/>
          </p:nvSpPr>
          <p:spPr>
            <a:xfrm>
              <a:off x="-360" y="3357720"/>
              <a:ext cx="3656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Jiggling aroun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(vibrational energy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1"/>
            <p:cNvSpPr/>
            <p:nvPr/>
          </p:nvSpPr>
          <p:spPr>
            <a:xfrm flipV="1">
              <a:off x="3203640" y="3645000"/>
              <a:ext cx="36036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324000" y="404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Arial"/>
              </a:rPr>
              <a:t>Mechanical properties change with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611280" y="134136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 =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77777"/>
                </a:solidFill>
                <a:latin typeface="Arial"/>
              </a:rPr>
              <a:t>can break and make bonds quickly – atoms slide easily over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590400" y="4149720"/>
            <a:ext cx="786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 = lo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77777"/>
                </a:solidFill>
                <a:latin typeface="Arial"/>
              </a:rPr>
              <a:t>difficult to break bonds – atoms don’t slide over each other eas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681840" y="3141720"/>
            <a:ext cx="36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Liquid: less visc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4717800" y="314172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Arial"/>
              </a:rPr>
              <a:t>Solid: more du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61680" y="5951520"/>
            <a:ext cx="38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Liquid: more visc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4697280" y="5950080"/>
            <a:ext cx="33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Arial"/>
              </a:rPr>
              <a:t>Solid: more br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395280" y="5229360"/>
            <a:ext cx="842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ation energy,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required for an event to happen i.e. get out of a potential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3"/>
          <p:cNvSpPr/>
          <p:nvPr/>
        </p:nvSpPr>
        <p:spPr>
          <a:xfrm>
            <a:off x="687240" y="1776240"/>
            <a:ext cx="7772400" cy="3124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3124440"/>
              <a:gd name="textAreaBottom" fmla="*/ 3124800 h 3124440"/>
            </a:gdLst>
            <a:ahLst/>
            <a:rect l="textAreaLeft" t="textAreaTop" r="textAreaRight" b="textAreaBottom"/>
            <a:pathLst>
              <a:path w="2736" h="1248">
                <a:moveTo>
                  <a:pt x="0" y="272"/>
                </a:moveTo>
                <a:cubicBezTo>
                  <a:pt x="48" y="152"/>
                  <a:pt x="96" y="32"/>
                  <a:pt x="144" y="32"/>
                </a:cubicBezTo>
                <a:cubicBezTo>
                  <a:pt x="192" y="32"/>
                  <a:pt x="208" y="80"/>
                  <a:pt x="288" y="272"/>
                </a:cubicBezTo>
                <a:cubicBezTo>
                  <a:pt x="368" y="464"/>
                  <a:pt x="520" y="1192"/>
                  <a:pt x="624" y="1184"/>
                </a:cubicBezTo>
                <a:cubicBezTo>
                  <a:pt x="728" y="1176"/>
                  <a:pt x="848" y="408"/>
                  <a:pt x="912" y="224"/>
                </a:cubicBezTo>
                <a:cubicBezTo>
                  <a:pt x="976" y="40"/>
                  <a:pt x="976" y="72"/>
                  <a:pt x="1008" y="80"/>
                </a:cubicBezTo>
                <a:cubicBezTo>
                  <a:pt x="1040" y="88"/>
                  <a:pt x="1032" y="80"/>
                  <a:pt x="1104" y="272"/>
                </a:cubicBezTo>
                <a:cubicBezTo>
                  <a:pt x="1176" y="464"/>
                  <a:pt x="1328" y="1248"/>
                  <a:pt x="1440" y="1232"/>
                </a:cubicBezTo>
                <a:cubicBezTo>
                  <a:pt x="1552" y="1216"/>
                  <a:pt x="1688" y="352"/>
                  <a:pt x="1776" y="176"/>
                </a:cubicBezTo>
                <a:cubicBezTo>
                  <a:pt x="1864" y="0"/>
                  <a:pt x="1888" y="0"/>
                  <a:pt x="1968" y="176"/>
                </a:cubicBezTo>
                <a:cubicBezTo>
                  <a:pt x="2048" y="352"/>
                  <a:pt x="2128" y="1248"/>
                  <a:pt x="2256" y="1232"/>
                </a:cubicBezTo>
                <a:cubicBezTo>
                  <a:pt x="2384" y="1216"/>
                  <a:pt x="2664" y="280"/>
                  <a:pt x="2736" y="8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4"/>
          <p:cNvSpPr/>
          <p:nvPr/>
        </p:nvSpPr>
        <p:spPr>
          <a:xfrm>
            <a:off x="2287440" y="421488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5"/>
          <p:cNvGrpSpPr/>
          <p:nvPr/>
        </p:nvGrpSpPr>
        <p:grpSpPr>
          <a:xfrm>
            <a:off x="2268360" y="1700280"/>
            <a:ext cx="3600720" cy="2894040"/>
            <a:chOff x="2268360" y="1700280"/>
            <a:chExt cx="3600720" cy="2894040"/>
          </a:xfrm>
        </p:grpSpPr>
        <p:grpSp>
          <p:nvGrpSpPr>
            <p:cNvPr id="509" name="Group 6"/>
            <p:cNvGrpSpPr/>
            <p:nvPr/>
          </p:nvGrpSpPr>
          <p:grpSpPr>
            <a:xfrm>
              <a:off x="2516040" y="1700280"/>
              <a:ext cx="3353040" cy="2743200"/>
              <a:chOff x="2516040" y="1700280"/>
              <a:chExt cx="3353040" cy="2743200"/>
            </a:xfrm>
          </p:grpSpPr>
          <p:sp>
            <p:nvSpPr>
              <p:cNvPr id="510" name="Text Box 7"/>
              <p:cNvSpPr/>
              <p:nvPr/>
            </p:nvSpPr>
            <p:spPr>
              <a:xfrm>
                <a:off x="3811680" y="1700280"/>
                <a:ext cx="20574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ff0000"/>
                    </a:solidFill>
                    <a:latin typeface="Arial"/>
                  </a:rPr>
                  <a:t>Activation energy, </a:t>
                </a:r>
                <a:r>
                  <a:rPr b="0" lang="en-GB" sz="3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>
                <a:off x="2516040" y="44053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9"/>
              <p:cNvSpPr/>
              <p:nvPr/>
            </p:nvSpPr>
            <p:spPr>
              <a:xfrm>
                <a:off x="3430440" y="173844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10"/>
              <p:cNvSpPr/>
              <p:nvPr/>
            </p:nvSpPr>
            <p:spPr>
              <a:xfrm>
                <a:off x="3735360" y="1700280"/>
                <a:ext cx="0" cy="2743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Oval 11"/>
            <p:cNvSpPr/>
            <p:nvPr/>
          </p:nvSpPr>
          <p:spPr>
            <a:xfrm>
              <a:off x="2268360" y="4213080"/>
              <a:ext cx="381240" cy="381240"/>
            </a:xfrm>
            <a:prstGeom prst="ellipse">
              <a:avLst/>
            </a:prstGeom>
            <a:solidFill>
              <a:srgbClr val="ff0000">
                <a:alpha val="1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12"/>
          <p:cNvSpPr/>
          <p:nvPr/>
        </p:nvSpPr>
        <p:spPr>
          <a:xfrm>
            <a:off x="250920" y="260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think of bonds as potential wells in which atoms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3 -0.01896 C -0.00504 -0.02728 -0.00903 -0.02867 -0.01268 -0.03584 C -0.01511 -0.05896 -0.00868 -0.08439 -0.02223 -0.1015 C -0.03993 -0.09364 -0.02483 -0.05873 -0.02066 -0.04231 C -0.02014 -0.03098 -0.0198 -0.01988 -0.01893 -0.00855 C -0.01858 -0.00439 -0.01962 0.00116 -0.01736 0.00416 C -0.0158 0.00624 -0.0132 0.00277 -0.01111 0.00208 C 0.00121 -0.00855 -0.0132 0.00509 -0.00313 -0.00855 C 0.00625 -0.02127 -0.00278 0.000459999999999999 0.00954 -0.02335 C 0.01163 -0.02751 0.01597 -0.03584 0.01597 -0.03561 C 0.01927 -0.04948 0.01684 -0.04023 0.02378 -0.06335 C 0.025 -0.06751 0.02708 -0.07607 0.02708 -0.07584 C 0.02656 -0.07884 0.02777 -0.08462 0.02552 -0.08462 C 0.02309 -0.08462 0.02291 -0.07907 0.02222 -0.07607 C 0.01805 -0.05827 0.01736 -0.03907 0.00954 -0.02335 C 0.00711 -0.01318 0.01093 0.01017 0.00329 -0.01064 C 0.00052 -0.02682 -0.00191 -0.04301 -0.00469 -0.05919 C -0.00573 -0.06474 -0.01146 -0.07931 -0.00782 -0.07607 C -0.00625 -0.07468 -0.00469 -0.07329 -0.00313 -0.07191 C -0.00209 -0.07399 -0.00191 -0.07769 3.88889E-006 -0.07815 C 0.00711 -0.08 0.00642 -0.05965 0.00642 -0.05919 C 0.0059 -0.04023 0.00659 -0.02104 0.00486 -0.00208 C 0.00468 -4.04623999999965E-007 0.00243 -0.00462 0.00156 -0.00624 C -0.00018 -0.00948 -0.00139 -0.01364 -0.00313 -0.01688 C -0.00764 -0.02497 -0.01198 -0.03306 -0.01736 -0.04023 C -0.0191 -0.0474 -0.02153 -0.04971 -0.02535 -0.05503 C -0.02223 -0.04185 -0.01841 -0.03075 -0.01268 -0.01896 C -0.01164 -0.02035 -0.01094 -0.02243 -0.00955 -0.02335 C -0.00712 -0.0252 -0.00365 -0.02497 -0.00157 -0.02751 C 0.00139 -0.03098 0.00277 -0.03607 0.00486 -0.04023 C 0.0059 -0.04231 0.00798 -0.04647 0.00798 -0.04624 C 0.00885 -0.04994 0.01007 -0.05711 0.01267 -0.05919 C 0.01545 -0.0615 0.02222 -0.06335 0.02222 -0.06312 C 0.02882 -0.07214 0.02743 -0.08185 0.0302 -0.06335 C 0.02899 -0.0585 0.02882 -0.05318 0.02708 -0.04855 C 0.02552 -0.04416 0.0184 -0.02844 0.01597 -0.02335 C 0.0118 -0.00647 0.01215 0.00277 0.01111 0.02335 C 0.00902 0.02266 0.00677 0.02243 0.00486 0.02104 C 0.00139 0.0185 -0.01007 -0.00092 -0.01268 -0.00624 C -0.01389 -0.02867 -0.01077 -0.03399 -0.02066 -0.04647 C -0.02118 -0.05064 -0.01997 -0.05618 -0.02223 -0.05919 C -0.02361 -0.06104 -0.02518 -0.05549 -0.02535 -0.05295 C -0.02587 -0.04023 -0.02552 -0.02728 -0.02379 -0.0148 C -0.02344 -0.01179 -0.02032 -0.01087 -0.01893 -0.00855 C -0.01667 -0.00462 -0.01476 -4.04623999999965E-007 -0.01268 0.00416 C -0.01059 0.00856 -0.00625 0.01688 -0.00625 0.01711 C -0.00313 0.01041 -0.00296 0.01133 -0.00157 0.00416 C 0.00034 -0.00601 3.88889E-006 -0.0111 3.88889E-006 -4.04624E-007 E">
                                      <p:cBhvr>
                                        <p:cTn id="415" dur="5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5.78035E-007 C 0.02639 -0.13041 0.05295 -0.26081 0.07153 -0.32555 C 0.0901 -0.39029 0.10052 -0.3896 0.11111 -0.38891 E">
                                      <p:cBhvr>
                                        <p:cTn id="419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396000" y="189000"/>
            <a:ext cx="387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magic </a:t>
            </a:r>
            <a:r>
              <a:rPr b="0" i="1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/kT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1332360" y="1268280"/>
            <a:ext cx="656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needed to d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1329480" y="2133720"/>
            <a:ext cx="63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T -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vera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energy of a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992880" y="350028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/kT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992160" y="4475160"/>
            <a:ext cx="269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/kT = 10 -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992520" y="5389560"/>
            <a:ext cx="210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/kT &gt;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4709160" y="3562200"/>
            <a:ext cx="34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Already hap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4709520" y="4537080"/>
            <a:ext cx="39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obably will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4709880" y="5451480"/>
            <a:ext cx="26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Won’t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177480" y="260280"/>
            <a:ext cx="87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robability of molecule having a specific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3"/>
          <p:cNvGrpSpPr/>
          <p:nvPr/>
        </p:nvGrpSpPr>
        <p:grpSpPr>
          <a:xfrm>
            <a:off x="3460680" y="2565360"/>
            <a:ext cx="2953080" cy="1081080"/>
            <a:chOff x="3460680" y="2565360"/>
            <a:chExt cx="2953080" cy="1081080"/>
          </a:xfrm>
        </p:grpSpPr>
        <p:sp>
          <p:nvSpPr>
            <p:cNvPr id="527" name="Text Box 4"/>
            <p:cNvSpPr/>
            <p:nvPr/>
          </p:nvSpPr>
          <p:spPr>
            <a:xfrm>
              <a:off x="4111560" y="2565360"/>
              <a:ext cx="230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Exponenti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5"/>
            <p:cNvSpPr/>
            <p:nvPr/>
          </p:nvSpPr>
          <p:spPr>
            <a:xfrm flipH="1">
              <a:off x="3460680" y="3070440"/>
              <a:ext cx="72072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6"/>
          <p:cNvGrpSpPr/>
          <p:nvPr/>
        </p:nvGrpSpPr>
        <p:grpSpPr>
          <a:xfrm>
            <a:off x="42840" y="1341360"/>
            <a:ext cx="7768080" cy="4181760"/>
            <a:chOff x="42840" y="1341360"/>
            <a:chExt cx="7768080" cy="4181760"/>
          </a:xfrm>
        </p:grpSpPr>
        <p:sp>
          <p:nvSpPr>
            <p:cNvPr id="530" name="Line 7"/>
            <p:cNvSpPr/>
            <p:nvPr/>
          </p:nvSpPr>
          <p:spPr>
            <a:xfrm>
              <a:off x="2734920" y="1650960"/>
              <a:ext cx="0" cy="327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8"/>
            <p:cNvSpPr/>
            <p:nvPr/>
          </p:nvSpPr>
          <p:spPr>
            <a:xfrm>
              <a:off x="2734920" y="4924440"/>
              <a:ext cx="47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9"/>
            <p:cNvSpPr/>
            <p:nvPr/>
          </p:nvSpPr>
          <p:spPr>
            <a:xfrm>
              <a:off x="6342480" y="4941720"/>
              <a:ext cx="146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42840" y="1341360"/>
              <a:ext cx="207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Probabili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1"/>
            <p:cNvSpPr/>
            <p:nvPr/>
          </p:nvSpPr>
          <p:spPr>
            <a:xfrm>
              <a:off x="2523960" y="1628640"/>
              <a:ext cx="21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2"/>
            <p:cNvSpPr/>
            <p:nvPr/>
          </p:nvSpPr>
          <p:spPr>
            <a:xfrm>
              <a:off x="2166840" y="1365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13"/>
            <p:cNvSpPr/>
            <p:nvPr/>
          </p:nvSpPr>
          <p:spPr>
            <a:xfrm>
              <a:off x="2238480" y="4678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4"/>
            <p:cNvSpPr/>
            <p:nvPr/>
          </p:nvSpPr>
          <p:spPr>
            <a:xfrm>
              <a:off x="2523960" y="4924440"/>
              <a:ext cx="21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5"/>
            <p:cNvSpPr/>
            <p:nvPr/>
          </p:nvSpPr>
          <p:spPr>
            <a:xfrm>
              <a:off x="2741400" y="1787400"/>
              <a:ext cx="4392360" cy="3081600"/>
            </a:xfrm>
            <a:custGeom>
              <a:avLst/>
              <a:gdLst>
                <a:gd name="textAreaLeft" fmla="*/ 0 w 4392360"/>
                <a:gd name="textAreaRight" fmla="*/ 4392720 w 4392360"/>
                <a:gd name="textAreaTop" fmla="*/ 0 h 3081600"/>
                <a:gd name="textAreaBottom" fmla="*/ 3081960 h 3081600"/>
              </a:gdLst>
              <a:ahLst/>
              <a:rect l="textAreaLeft" t="textAreaTop" r="textAreaRight" b="textAreaBottom"/>
              <a:pathLst>
                <a:path w="6541200" h="4585479">
                  <a:moveTo>
                    <a:pt x="0" y="0"/>
                  </a:moveTo>
                  <a:cubicBezTo>
                    <a:pt x="180262" y="663325"/>
                    <a:pt x="360525" y="1326650"/>
                    <a:pt x="527850" y="1811420"/>
                  </a:cubicBezTo>
                  <a:cubicBezTo>
                    <a:pt x="695175" y="2296190"/>
                    <a:pt x="841800" y="2615345"/>
                    <a:pt x="1003950" y="2908622"/>
                  </a:cubicBezTo>
                  <a:cubicBezTo>
                    <a:pt x="1166100" y="3201899"/>
                    <a:pt x="1331700" y="3393392"/>
                    <a:pt x="1500750" y="3571084"/>
                  </a:cubicBezTo>
                  <a:cubicBezTo>
                    <a:pt x="1669800" y="3748776"/>
                    <a:pt x="1845750" y="3866087"/>
                    <a:pt x="2018250" y="3974772"/>
                  </a:cubicBezTo>
                  <a:cubicBezTo>
                    <a:pt x="2190750" y="4083457"/>
                    <a:pt x="2368425" y="4157639"/>
                    <a:pt x="2535750" y="4223195"/>
                  </a:cubicBezTo>
                  <a:cubicBezTo>
                    <a:pt x="2703075" y="4288751"/>
                    <a:pt x="2854875" y="4328430"/>
                    <a:pt x="3022200" y="4368109"/>
                  </a:cubicBezTo>
                  <a:cubicBezTo>
                    <a:pt x="3189525" y="4407788"/>
                    <a:pt x="3203325" y="4428490"/>
                    <a:pt x="3539700" y="4461268"/>
                  </a:cubicBezTo>
                  <a:cubicBezTo>
                    <a:pt x="3876075" y="4494046"/>
                    <a:pt x="4540200" y="4544075"/>
                    <a:pt x="5040450" y="4564777"/>
                  </a:cubicBezTo>
                  <a:cubicBezTo>
                    <a:pt x="5540700" y="4585479"/>
                    <a:pt x="6040950" y="4585479"/>
                    <a:pt x="6541200" y="4585479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395280" y="189000"/>
            <a:ext cx="33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oltzman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3663720" y="907920"/>
            <a:ext cx="127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4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GB" sz="4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4800" spc="-1" strike="noStrike" baseline="30000">
                <a:solidFill>
                  <a:srgbClr val="ff0000"/>
                </a:solidFill>
                <a:latin typeface="Arial"/>
              </a:rPr>
              <a:t>/k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611280" y="1773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ability of molecules achieving an event characterised by activation energy,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2284200" y="3641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1764720" y="429264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10 -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1882800" y="501480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&gt;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5433840" y="364176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0.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3815280" y="4292640"/>
            <a:ext cx="42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4.5 x 10</a:t>
            </a:r>
            <a:r>
              <a:rPr b="0" lang="en-GB" sz="3200" spc="-1" strike="noStrike" baseline="30000">
                <a:solidFill>
                  <a:srgbClr val="0000ff"/>
                </a:solidFill>
                <a:latin typeface="Arial"/>
              </a:rPr>
              <a:t>-6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- 9.36 x 10</a:t>
            </a:r>
            <a:r>
              <a:rPr b="0" lang="en-GB" sz="3200" spc="-1" strike="noStrike" baseline="30000">
                <a:solidFill>
                  <a:srgbClr val="0000ff"/>
                </a:solidFill>
                <a:latin typeface="Arial"/>
              </a:rPr>
              <a:t>-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4936320" y="5013360"/>
            <a:ext cx="196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3.7 x 10</a:t>
            </a:r>
            <a:r>
              <a:rPr b="0" lang="en-GB" sz="3200" spc="-1" strike="noStrike" baseline="30000">
                <a:solidFill>
                  <a:srgbClr val="0000ff"/>
                </a:solidFill>
                <a:latin typeface="Arial"/>
              </a:rPr>
              <a:t>-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11"/>
          <p:cNvGrpSpPr/>
          <p:nvPr/>
        </p:nvGrpSpPr>
        <p:grpSpPr>
          <a:xfrm>
            <a:off x="1476360" y="2960640"/>
            <a:ext cx="6480360" cy="2773440"/>
            <a:chOff x="1476360" y="2960640"/>
            <a:chExt cx="6480360" cy="2773440"/>
          </a:xfrm>
        </p:grpSpPr>
        <p:sp>
          <p:nvSpPr>
            <p:cNvPr id="549" name="Rectangle 12"/>
            <p:cNvSpPr/>
            <p:nvPr/>
          </p:nvSpPr>
          <p:spPr>
            <a:xfrm>
              <a:off x="5369760" y="2960640"/>
              <a:ext cx="109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r>
                <a:rPr b="0" lang="en-GB" sz="40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0" lang="en-GB" sz="40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r>
                <a:rPr b="0" lang="en-GB" sz="4000" spc="-1" strike="noStrike" baseline="30000">
                  <a:solidFill>
                    <a:srgbClr val="ff0000"/>
                  </a:solidFill>
                  <a:latin typeface="Arial"/>
                </a:rPr>
                <a:t>/k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3"/>
            <p:cNvSpPr/>
            <p:nvPr/>
          </p:nvSpPr>
          <p:spPr>
            <a:xfrm>
              <a:off x="2025360" y="3021120"/>
              <a:ext cx="92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/k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4"/>
            <p:cNvSpPr/>
            <p:nvPr/>
          </p:nvSpPr>
          <p:spPr>
            <a:xfrm>
              <a:off x="1476360" y="357336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5"/>
            <p:cNvSpPr/>
            <p:nvPr/>
          </p:nvSpPr>
          <p:spPr>
            <a:xfrm>
              <a:off x="3564000" y="3068640"/>
              <a:ext cx="0" cy="26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Text Box 16"/>
          <p:cNvSpPr/>
          <p:nvPr/>
        </p:nvSpPr>
        <p:spPr>
          <a:xfrm>
            <a:off x="88920" y="5877000"/>
            <a:ext cx="923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b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pportunities per second to gai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3564720" y="33336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Entr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755640" y="112536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Number of ways quanta of energy can be distributed in a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1464840" y="3209760"/>
            <a:ext cx="53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Lots of energy – lots of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1463400" y="3786120"/>
            <a:ext cx="62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ot much energy – very few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236520" y="4883040"/>
            <a:ext cx="879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Arial"/>
              </a:rPr>
              <a:t>An “event” will only happen if entropy increases or remains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7"/>
          <p:cNvGrpSpPr/>
          <p:nvPr/>
        </p:nvGrpSpPr>
        <p:grpSpPr>
          <a:xfrm>
            <a:off x="4330800" y="2205000"/>
            <a:ext cx="4201920" cy="653040"/>
            <a:chOff x="4330800" y="2205000"/>
            <a:chExt cx="4201920" cy="653040"/>
          </a:xfrm>
        </p:grpSpPr>
        <p:sp>
          <p:nvSpPr>
            <p:cNvPr id="560" name="Text Box 8"/>
            <p:cNvSpPr/>
            <p:nvPr/>
          </p:nvSpPr>
          <p:spPr>
            <a:xfrm>
              <a:off x="5122800" y="2276640"/>
              <a:ext cx="340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Amongst particl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9"/>
            <p:cNvSpPr/>
            <p:nvPr/>
          </p:nvSpPr>
          <p:spPr>
            <a:xfrm>
              <a:off x="4330800" y="2205000"/>
              <a:ext cx="720720" cy="36036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454" h="227">
                  <a:moveTo>
                    <a:pt x="454" y="227"/>
                  </a:moveTo>
                  <a:cubicBezTo>
                    <a:pt x="332" y="223"/>
                    <a:pt x="211" y="219"/>
                    <a:pt x="136" y="181"/>
                  </a:cubicBezTo>
                  <a:cubicBezTo>
                    <a:pt x="61" y="143"/>
                    <a:pt x="30" y="71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2874600" y="2060640"/>
            <a:ext cx="332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S = k ln 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2068560" y="620640"/>
            <a:ext cx="49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GB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 law of ther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1015200" y="3789360"/>
            <a:ext cx="47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 = entr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 = Boltzmann’s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 = number of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369200" cy="25873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77724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  <a:ea typeface="Arial"/>
              </a:rPr>
              <a:t>S = </a:t>
            </a:r>
            <a:r>
              <a:rPr b="0" lang="el-GR" sz="6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Δ</a:t>
            </a:r>
            <a:r>
              <a:rPr b="0" lang="en-GB" sz="6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350px-Dampfturbine_Laeufer01"/>
          <p:cNvPicPr/>
          <p:nvPr/>
        </p:nvPicPr>
        <p:blipFill>
          <a:blip r:embed="rId1"/>
          <a:stretch/>
        </p:blipFill>
        <p:spPr>
          <a:xfrm>
            <a:off x="1403280" y="498600"/>
            <a:ext cx="59054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116000" y="1341360"/>
            <a:ext cx="56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will go from hot to 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324000" y="40464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t a thermal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6732720" y="1989000"/>
            <a:ext cx="1800000" cy="1873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6732720" y="3862440"/>
            <a:ext cx="1800000" cy="172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6"/>
          <p:cNvSpPr/>
          <p:nvPr/>
        </p:nvSpPr>
        <p:spPr>
          <a:xfrm>
            <a:off x="7164360" y="3213000"/>
            <a:ext cx="934920" cy="1368360"/>
          </a:xfrm>
          <a:prstGeom prst="downArrow">
            <a:avLst>
              <a:gd name="adj1" fmla="val 50000"/>
              <a:gd name="adj2" fmla="val 36590"/>
            </a:avLst>
          </a:prstGeom>
          <a:gradFill rotWithShape="0">
            <a:gsLst>
              <a:gs pos="0">
                <a:srgbClr val="ffffff">
                  <a:alpha val="98039"/>
                </a:srgbClr>
              </a:gs>
              <a:gs pos="100000">
                <a:srgbClr val="767676">
                  <a:alpha val="4313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176400" y="2637000"/>
            <a:ext cx="63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Number of ways decreases – a 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179280" y="407664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umber of ways increases – significa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2122200" y="5586480"/>
            <a:ext cx="46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ult - entropy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5" descr="Didcot_power_station_cooling_tower_zootalures"/>
          <p:cNvPicPr/>
          <p:nvPr/>
        </p:nvPicPr>
        <p:blipFill>
          <a:blip r:embed="rId1"/>
          <a:stretch/>
        </p:blipFill>
        <p:spPr>
          <a:xfrm>
            <a:off x="395280" y="549360"/>
            <a:ext cx="85057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5" descr="Image:Carnot heat engine 2.svg"/>
          <p:cNvPicPr/>
          <p:nvPr/>
        </p:nvPicPr>
        <p:blipFill>
          <a:blip r:embed="rId1"/>
          <a:stretch/>
        </p:blipFill>
        <p:spPr>
          <a:xfrm>
            <a:off x="762120" y="1752480"/>
            <a:ext cx="7619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 =  W/Q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H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= (Q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) /  Q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H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       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 =  Q/T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 =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/ T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H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=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– T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T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H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4"/>
          <p:cNvSpPr/>
          <p:nvPr/>
        </p:nvSpPr>
        <p:spPr>
          <a:xfrm>
            <a:off x="5003640" y="2205000"/>
            <a:ext cx="1297080" cy="71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traight Connector 6"/>
          <p:cNvSpPr/>
          <p:nvPr/>
        </p:nvSpPr>
        <p:spPr>
          <a:xfrm>
            <a:off x="5003640" y="2205000"/>
            <a:ext cx="12970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traight Connector 9"/>
          <p:cNvSpPr/>
          <p:nvPr/>
        </p:nvSpPr>
        <p:spPr>
          <a:xfrm>
            <a:off x="7524720" y="220500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oms don’t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happens most ways happens most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2050200" y="37893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Specific Thermal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176760" y="4653000"/>
            <a:ext cx="878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required to raise 1kg of a material by 1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4"/>
          <p:cNvGrpSpPr/>
          <p:nvPr/>
        </p:nvGrpSpPr>
        <p:grpSpPr>
          <a:xfrm>
            <a:off x="1448640" y="5586480"/>
            <a:ext cx="5990400" cy="581400"/>
            <a:chOff x="1448640" y="5586480"/>
            <a:chExt cx="5990400" cy="581400"/>
          </a:xfrm>
        </p:grpSpPr>
        <p:sp>
          <p:nvSpPr>
            <p:cNvPr id="591" name="Text Box 5"/>
            <p:cNvSpPr/>
            <p:nvPr/>
          </p:nvSpPr>
          <p:spPr>
            <a:xfrm>
              <a:off x="1448640" y="5586480"/>
              <a:ext cx="220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Symbol = 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6"/>
            <p:cNvSpPr/>
            <p:nvPr/>
          </p:nvSpPr>
          <p:spPr>
            <a:xfrm>
              <a:off x="4524120" y="5586480"/>
              <a:ext cx="291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Unit = J kg</a:t>
              </a:r>
              <a:r>
                <a:rPr b="0" lang="en-GB" sz="3200" spc="-1" strike="noStrike" baseline="30000">
                  <a:solidFill>
                    <a:srgbClr val="333399"/>
                  </a:solidFill>
                  <a:latin typeface="Arial"/>
                </a:rPr>
                <a:t>-1</a:t>
              </a:r>
              <a:r>
                <a:rPr b="0" lang="en-GB" sz="3200" spc="-1" strike="noStrike">
                  <a:solidFill>
                    <a:srgbClr val="333399"/>
                  </a:solidFill>
                  <a:latin typeface="Arial"/>
                </a:rPr>
                <a:t> K</a:t>
              </a:r>
              <a:r>
                <a:rPr b="0" lang="en-GB" sz="3200" spc="-1" strike="noStrike" baseline="30000">
                  <a:solidFill>
                    <a:srgbClr val="333399"/>
                  </a:solidFill>
                  <a:latin typeface="Arial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Text Box 7"/>
          <p:cNvSpPr/>
          <p:nvPr/>
        </p:nvSpPr>
        <p:spPr>
          <a:xfrm>
            <a:off x="3058920" y="549360"/>
            <a:ext cx="53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Energy and solids (&amp; liqu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8"/>
          <p:cNvSpPr/>
          <p:nvPr/>
        </p:nvSpPr>
        <p:spPr>
          <a:xfrm>
            <a:off x="1042920" y="206064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lying energy to a material causes an increase in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9" descr="bush-shock"/>
          <p:cNvPicPr/>
          <p:nvPr/>
        </p:nvPicPr>
        <p:blipFill>
          <a:blip r:embed="rId1"/>
          <a:stretch/>
        </p:blipFill>
        <p:spPr>
          <a:xfrm>
            <a:off x="324000" y="189000"/>
            <a:ext cx="252072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2340720" y="620640"/>
            <a:ext cx="394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GB" sz="6000" spc="-1" strike="noStrike">
                <a:solidFill>
                  <a:srgbClr val="ff0000"/>
                </a:solidFill>
                <a:latin typeface="Arial"/>
              </a:rPr>
              <a:t>E = mc</a:t>
            </a:r>
            <a:r>
              <a:rPr b="0" lang="en-GB" sz="6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GB" sz="66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457200" y="2438280"/>
            <a:ext cx="82915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Energy needed to change temperatur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substance /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ss of substance /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 thermal capacity of subst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 J kg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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 Change in temperature /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324000" y="148104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gained by an electron when accelerated by a 1V potential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586080" y="2705040"/>
            <a:ext cx="335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E = 1.6 x 10</a:t>
            </a:r>
            <a:r>
              <a:rPr b="0" lang="en-GB" sz="3200" spc="-1" strike="noStrike" baseline="30000">
                <a:solidFill>
                  <a:srgbClr val="ff0000"/>
                </a:solidFill>
                <a:latin typeface="Arial"/>
              </a:rPr>
              <a:t>-19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x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4015080" y="2705040"/>
            <a:ext cx="25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= 1.6 x 10</a:t>
            </a:r>
            <a:r>
              <a:rPr b="0" lang="en-GB" sz="3200" spc="-1" strike="noStrike" baseline="30000">
                <a:solidFill>
                  <a:srgbClr val="ff0000"/>
                </a:solidFill>
                <a:latin typeface="Arial"/>
              </a:rPr>
              <a:t>-19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6661440" y="2705040"/>
            <a:ext cx="12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= 1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6"/>
          <p:cNvSpPr/>
          <p:nvPr/>
        </p:nvSpPr>
        <p:spPr>
          <a:xfrm>
            <a:off x="324720" y="765000"/>
            <a:ext cx="247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From E = q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3327480" y="108000"/>
            <a:ext cx="250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Energy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334080" y="3787920"/>
            <a:ext cx="2879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From E = N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9"/>
          <p:cNvSpPr/>
          <p:nvPr/>
        </p:nvSpPr>
        <p:spPr>
          <a:xfrm>
            <a:off x="662040" y="4567320"/>
            <a:ext cx="67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of 1 mole’s worth of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0"/>
          <p:cNvSpPr/>
          <p:nvPr/>
        </p:nvSpPr>
        <p:spPr>
          <a:xfrm>
            <a:off x="3300840" y="5373720"/>
            <a:ext cx="19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J mol</a:t>
            </a:r>
            <a:r>
              <a:rPr b="0" lang="en-GB" sz="40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3277440" y="260280"/>
            <a:ext cx="227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atent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324000" y="126828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 energy required to change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4969080" y="2916360"/>
            <a:ext cx="25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oli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493200" y="3857760"/>
            <a:ext cx="50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tent Heat of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apor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6093000" y="3857760"/>
            <a:ext cx="247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Liqui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395280" y="502596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At a phase boundary there is no change in temperature - energy used just to break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8" descr="matter"/>
          <p:cNvPicPr/>
          <p:nvPr/>
        </p:nvPicPr>
        <p:blipFill>
          <a:blip r:embed="rId1"/>
          <a:srcRect l="0" t="10393" r="0" b="0"/>
          <a:stretch/>
        </p:blipFill>
        <p:spPr>
          <a:xfrm>
            <a:off x="5580000" y="177840"/>
            <a:ext cx="3384720" cy="25304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9"/>
          <p:cNvSpPr/>
          <p:nvPr/>
        </p:nvSpPr>
        <p:spPr>
          <a:xfrm>
            <a:off x="511560" y="2921040"/>
            <a:ext cx="39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tent Heat of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2700720" y="189000"/>
            <a:ext cx="259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LHV -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325080" y="64944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539640" y="13683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) Number of molecules of water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531000" y="3141720"/>
            <a:ext cx="77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) Energy used per molecule to evap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536400" y="4941720"/>
            <a:ext cx="73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) Energy used to vaporise 1kg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7"/>
          <p:cNvGrpSpPr/>
          <p:nvPr/>
        </p:nvGrpSpPr>
        <p:grpSpPr>
          <a:xfrm>
            <a:off x="2339280" y="1916280"/>
            <a:ext cx="4173480" cy="1086120"/>
            <a:chOff x="2339280" y="1916280"/>
            <a:chExt cx="4173480" cy="1086120"/>
          </a:xfrm>
        </p:grpSpPr>
        <p:sp>
          <p:nvSpPr>
            <p:cNvPr id="621" name="Text Box 8"/>
            <p:cNvSpPr/>
            <p:nvPr/>
          </p:nvSpPr>
          <p:spPr>
            <a:xfrm>
              <a:off x="2339280" y="1916280"/>
              <a:ext cx="329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90099"/>
                  </a:solidFill>
                  <a:latin typeface="Arial"/>
                </a:rPr>
                <a:t>mass evaporat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9"/>
            <p:cNvSpPr/>
            <p:nvPr/>
          </p:nvSpPr>
          <p:spPr>
            <a:xfrm>
              <a:off x="2772000" y="2421000"/>
              <a:ext cx="228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90099"/>
                  </a:solidFill>
                  <a:latin typeface="Arial"/>
                </a:rPr>
                <a:t>molar mas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0"/>
            <p:cNvSpPr/>
            <p:nvPr/>
          </p:nvSpPr>
          <p:spPr>
            <a:xfrm>
              <a:off x="2413080" y="2492280"/>
              <a:ext cx="3095640" cy="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1"/>
            <p:cNvSpPr/>
            <p:nvPr/>
          </p:nvSpPr>
          <p:spPr>
            <a:xfrm>
              <a:off x="5880960" y="2060640"/>
              <a:ext cx="631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90099"/>
                  </a:solidFill>
                  <a:latin typeface="Arial"/>
                </a:rPr>
                <a:t>N</a:t>
              </a:r>
              <a:r>
                <a:rPr b="0" lang="en-GB" sz="3200" spc="-1" strike="noStrike" baseline="-25000">
                  <a:solidFill>
                    <a:srgbClr val="990099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2"/>
            <p:cNvSpPr/>
            <p:nvPr/>
          </p:nvSpPr>
          <p:spPr>
            <a:xfrm>
              <a:off x="5460840" y="206064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990099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13"/>
          <p:cNvGrpSpPr/>
          <p:nvPr/>
        </p:nvGrpSpPr>
        <p:grpSpPr>
          <a:xfrm>
            <a:off x="1631520" y="3699000"/>
            <a:ext cx="5027040" cy="1085760"/>
            <a:chOff x="1631520" y="3699000"/>
            <a:chExt cx="5027040" cy="1085760"/>
          </a:xfrm>
        </p:grpSpPr>
        <p:sp>
          <p:nvSpPr>
            <p:cNvPr id="627" name="Text Box 14"/>
            <p:cNvSpPr/>
            <p:nvPr/>
          </p:nvSpPr>
          <p:spPr>
            <a:xfrm>
              <a:off x="2936880" y="3699000"/>
              <a:ext cx="241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90099"/>
                  </a:solidFill>
                  <a:latin typeface="Arial"/>
                </a:rPr>
                <a:t>energy us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15"/>
            <p:cNvSpPr/>
            <p:nvPr/>
          </p:nvSpPr>
          <p:spPr>
            <a:xfrm>
              <a:off x="1631520" y="4203360"/>
              <a:ext cx="502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90099"/>
                  </a:solidFill>
                  <a:latin typeface="Arial"/>
                </a:rPr>
                <a:t>n</a:t>
              </a:r>
              <a:r>
                <a:rPr b="0" lang="en-GB" sz="3200" spc="-1" strike="noStrike" baseline="30000">
                  <a:solidFill>
                    <a:srgbClr val="990099"/>
                  </a:solidFill>
                  <a:latin typeface="Arial"/>
                </a:rPr>
                <a:t>o </a:t>
              </a:r>
              <a:r>
                <a:rPr b="0" lang="en-GB" sz="3200" spc="-1" strike="noStrike">
                  <a:solidFill>
                    <a:srgbClr val="990099"/>
                  </a:solidFill>
                  <a:latin typeface="Arial"/>
                </a:rPr>
                <a:t>of molecules evaporat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6"/>
            <p:cNvSpPr/>
            <p:nvPr/>
          </p:nvSpPr>
          <p:spPr>
            <a:xfrm>
              <a:off x="1697040" y="4275000"/>
              <a:ext cx="4896000" cy="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17"/>
          <p:cNvGrpSpPr/>
          <p:nvPr/>
        </p:nvGrpSpPr>
        <p:grpSpPr>
          <a:xfrm>
            <a:off x="253440" y="5518080"/>
            <a:ext cx="8817120" cy="1014480"/>
            <a:chOff x="253440" y="5518080"/>
            <a:chExt cx="8817120" cy="1014480"/>
          </a:xfrm>
        </p:grpSpPr>
        <p:sp>
          <p:nvSpPr>
            <p:cNvPr id="631" name="Text Box 18"/>
            <p:cNvSpPr/>
            <p:nvPr/>
          </p:nvSpPr>
          <p:spPr>
            <a:xfrm>
              <a:off x="993240" y="5518080"/>
              <a:ext cx="75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990099"/>
                  </a:solidFill>
                  <a:latin typeface="Arial"/>
                </a:rPr>
                <a:t>1k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19"/>
            <p:cNvSpPr/>
            <p:nvPr/>
          </p:nvSpPr>
          <p:spPr>
            <a:xfrm>
              <a:off x="253440" y="6012000"/>
              <a:ext cx="202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990099"/>
                  </a:solidFill>
                  <a:latin typeface="Arial"/>
                </a:rPr>
                <a:t>molar ma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0"/>
            <p:cNvSpPr/>
            <p:nvPr/>
          </p:nvSpPr>
          <p:spPr>
            <a:xfrm>
              <a:off x="2325240" y="5684760"/>
              <a:ext cx="674532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990099"/>
                  </a:solidFill>
                  <a:latin typeface="Symbol"/>
                  <a:ea typeface="Symbol"/>
                </a:rPr>
                <a:t></a:t>
              </a:r>
              <a:r>
                <a:rPr b="0" lang="en-GB" sz="32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990099"/>
                  </a:solidFill>
                  <a:latin typeface="Arial"/>
                </a:rPr>
                <a:t>N</a:t>
              </a:r>
              <a:r>
                <a:rPr b="0" lang="en-GB" sz="2800" spc="-1" strike="noStrike" baseline="-25000">
                  <a:solidFill>
                    <a:srgbClr val="990099"/>
                  </a:solidFill>
                  <a:latin typeface="Arial"/>
                </a:rPr>
                <a:t>A</a:t>
              </a:r>
              <a:r>
                <a:rPr b="1" lang="en-GB" sz="32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r>
                <a:rPr b="1" lang="en-GB" sz="3200" spc="-1" strike="noStrike">
                  <a:solidFill>
                    <a:srgbClr val="990099"/>
                  </a:solidFill>
                  <a:latin typeface="Symbol"/>
                  <a:ea typeface="Symbol"/>
                </a:rPr>
                <a:t></a:t>
              </a:r>
              <a:r>
                <a:rPr b="0" lang="en-GB" sz="32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990099"/>
                  </a:solidFill>
                  <a:latin typeface="Arial"/>
                </a:rPr>
                <a:t>Energy to vaporise one molec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21"/>
            <p:cNvSpPr/>
            <p:nvPr/>
          </p:nvSpPr>
          <p:spPr>
            <a:xfrm>
              <a:off x="342720" y="6045120"/>
              <a:ext cx="2088720" cy="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 Box 22"/>
          <p:cNvSpPr/>
          <p:nvPr/>
        </p:nvSpPr>
        <p:spPr>
          <a:xfrm>
            <a:off x="5573520" y="0"/>
            <a:ext cx="35229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GB" sz="28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= 6.02 x 10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olar mass</a:t>
            </a:r>
            <a:r>
              <a:rPr b="0" lang="en-GB" sz="2800" spc="-1" strike="noStrike" baseline="-25000">
                <a:solidFill>
                  <a:srgbClr val="0000ff"/>
                </a:solidFill>
                <a:latin typeface="Arial"/>
              </a:rPr>
              <a:t>water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= 18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50920" y="730080"/>
            <a:ext cx="8497800" cy="58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CChttp://www.decc.gov.uk/assets/decc/statistics/publications/flow/193-energy-flow-chart-2009.pd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Image:Carnot heat engine 2.svg"/>
          <p:cNvPicPr/>
          <p:nvPr/>
        </p:nvPicPr>
        <p:blipFill>
          <a:blip r:embed="rId1"/>
          <a:stretch/>
        </p:blipFill>
        <p:spPr>
          <a:xfrm>
            <a:off x="762120" y="1752480"/>
            <a:ext cx="7619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idcot_power_station_cooling_tower_zootalures"/>
          <p:cNvPicPr/>
          <p:nvPr/>
        </p:nvPicPr>
        <p:blipFill>
          <a:blip r:embed="rId1"/>
          <a:stretch/>
        </p:blipFill>
        <p:spPr>
          <a:xfrm>
            <a:off x="395280" y="549360"/>
            <a:ext cx="85057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9:28:02Z</dcterms:created>
  <dc:creator>PALMER</dc:creator>
  <dc:description/>
  <dc:language>en-US</dc:language>
  <cp:lastModifiedBy>fojcs-e</cp:lastModifiedBy>
  <dcterms:modified xsi:type="dcterms:W3CDTF">2011-07-12T12:28:45Z</dcterms:modified>
  <cp:revision>19</cp:revision>
  <dc:subject/>
  <dc:title>Slide 1</dc:title>
</cp:coreProperties>
</file>